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38320" y="763200"/>
            <a:ext cx="549432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6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BF408-0437-4CCE-B024-005C809D5B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38BB61-6ABD-49F2-8761-94E5B97B12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758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36D76-6BCF-4A71-9FDB-F2DB15476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4B27A0-601A-4A4E-8A1B-6E14B8B787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18B4D0-A6BA-467A-B500-5E2904DE50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73F3EC-5C03-4ACF-93E5-80D6E990C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84CC7-7D22-4791-997C-94E0A3CE34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26D00-BE2C-4910-A199-5479974F4F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1573A-42F3-4BD7-B2A2-F61EDF014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98B5B-EFF2-49D8-91D5-CB956C9B75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009D85-1270-4518-B036-A919476347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EA520-EB01-4BE5-A620-BB46FBF0B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DBD98D-03A0-414C-A82A-31C10D9582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C395DC-99B6-4638-911C-3D32F0EF8E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B3673D-74F3-4DED-8B35-CE186595F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75800" y="4776480"/>
            <a:ext cx="621828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306-627D-4824-BF06-AECEA4743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2C8E-F5FF-40C9-8503-E1B69E66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4CD-7A20-499F-B178-10CA8C701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20FE-069E-46AE-9A7F-09B0B4438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4CFED-75A7-407A-8B39-46124648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4117-708A-4EEE-BC03-80DEB0B4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F6B7F-3C24-4866-81FB-8B784FCF1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9FEA-DDFC-4A6D-86A3-BD018727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2AF0-43B2-492E-9426-CDB0DBBE7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C0AC-0F01-440C-BAB1-375ADC650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D5F3-FB87-4CBE-8DBF-DBDB3830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39B7-13FD-4C8E-A801-1FFA91F07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0000-2EA8-49B8-BD04-FC7A8A12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FF7EF-635A-4992-879F-63BF6E5A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3B0B-A15E-4D16-92FF-6FB10B8B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8089F-437A-41C4-A40F-A9803A3F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42EDD-6067-41B8-83F5-E57B18DEE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9CA0-BB5B-4702-BA92-0A8E5EBB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78CC-87E2-49DA-BD65-9F34FFA6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4094-5552-4242-9F17-C9DBB828E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4EC2-DA4F-4C00-AEB4-8F8C7CA2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16C6-BC4F-45A9-BD2A-E69DD711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F860-F6B7-48AB-AB77-2B2BDD58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A609-E828-4349-8561-05EC7B93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D0884-B717-45C3-8441-02D753506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5DB288-4D99-48E6-B5B0-D4F816EE823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e Merchant of Venice (TM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Money &amp; D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___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Aldric Bek (0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Lee Choon Kiat (0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Loh Zheng Yi (0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Keloysius Mak (1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Ryan Oon (1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Value of characters to other character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sanio to Anto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sanio to Po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onio to Shylo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assanio to Antonio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atly valued as a friend to Anto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y purse, my person, my extremest means/ lie all unlocked to your occassion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ows that Antonio valued Bassanio so much that he would give him all the monetary aid that he needed to court Port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 say to me what I should do/ that in your knowledge may by me be done,/ and I am prest unto it, therefore speak.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Bassanio to Portia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ia gives herself to Bassanio, when they first appear in Belmo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ne half of me is yours, the other half yours- / 'mine own' I would say: but if mine then yours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rtia is willing to travel to Venice to sacve Bassanio's friend Antonio, showing how much she valued Bassan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ntonio to Shylock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s Antonio as a 'good man' judging by what he ow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hylock, Antonio was only worth three thousand duc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f you repay me not on such a day...let the forfeit/ be nominated for an equal pound/ of your fair flesh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crave the law,/ the penalty and forfeit of my bond.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th just three thousand ducats, Shylock was almost able to take Antonio's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e 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 Unicode MS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able of Content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mes &amp; motifs involved in TMOV that concerns money and 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 of a m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s of some characters to other charact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finitio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: the importance or usefulness of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th: the value of someone or someth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: A formal agreement or p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mes &amp; motif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07092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reed corrupts 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h my ducats!” (exclaimed by Shylock when he finds out that Jessica had run away with his mone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resents mercenary side of Shyl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occupation with mon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e lends out money gratis and brings down/ the rate of usance here with us in Venice.” (Shylock reveals that he practised usur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hylock's practice of usury shows how much he is obsessed with making mone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2000" spc="-1" strike="noStrike">
                <a:solidFill>
                  <a:srgbClr val="ffffff"/>
                </a:solidFill>
                <a:latin typeface="Times New Roman"/>
              </a:rPr>
              <a:t>Was Bassanio’s “love” bought with mone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2127240" indent="-57312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600" spc="-1" strike="noStrike">
                <a:solidFill>
                  <a:srgbClr val="ffffff"/>
                </a:solidFill>
                <a:latin typeface="Times New Roman"/>
              </a:rPr>
              <a:t>We can see that Bassanio valued Portia for her money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3" marL="2584440" indent="-573120">
              <a:lnSpc>
                <a:spcPct val="95000"/>
              </a:lnSpc>
              <a:spcAft>
                <a:spcPts val="575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200" spc="-1" strike="noStrike">
                <a:solidFill>
                  <a:srgbClr val="ffffff"/>
                </a:solidFill>
                <a:latin typeface="Times New Roman"/>
              </a:rPr>
              <a:t>As seen when he chooses to mention “richly left” in front of all other of Portia’s valu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3" marL="2584440" indent="-573120">
              <a:lnSpc>
                <a:spcPct val="95000"/>
              </a:lnSpc>
              <a:spcAft>
                <a:spcPts val="575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SG" sz="1200" spc="-1" strike="noStrike">
                <a:solidFill>
                  <a:srgbClr val="ffffff"/>
                </a:solidFill>
                <a:latin typeface="Times New Roman"/>
              </a:rPr>
              <a:t>Or when he chooses Antonio over Portia in the ring 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0">
              <a:lnSpc>
                <a:spcPct val="95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Money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9070920" cy="5927760"/>
          </a:xfrm>
          <a:prstGeom prst="rect">
            <a:avLst/>
          </a:prstGeom>
          <a:noFill/>
          <a:ln w="0">
            <a:noFill/>
          </a:ln>
        </p:spPr>
        <p:txBody>
          <a:bodyPr lIns="0" rIns="0" tIns="1008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rince of Arrag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For who shall go about/ to cozen Fortune, and be honourable/ without the stamp of merit?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lay on the word on “Fortune”, which could mean fate or wealth, ie. Portia's inheritan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Leads to either generosity or money-grubbin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ay him six thousand, and deface the bond./ Double six thousand , and then treble that,/ before a friend of this description/ shall lose a hair through Bassanio's fault.”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ortia displays generosity by offering to pay for Antonio's bon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ree months from twelve- then let me see the rate.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hows that Shylock did not want to lend out money for fre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Value &amp; worth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810400"/>
          </a:xfrm>
          <a:prstGeom prst="rect">
            <a:avLst/>
          </a:prstGeom>
          <a:noFill/>
          <a:ln w="0">
            <a:noFill/>
          </a:ln>
        </p:spPr>
        <p:txBody>
          <a:bodyPr lIns="0" rIns="0" tIns="11520" bIns="0" anchor="t">
            <a:normAutofit fontScale="99000"/>
          </a:bodyPr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n Act II Scene I, the Prince of Morocco took his choice of the casket test, and in this, he showed just how much he valued Port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eing ten times undervalued to tried gold?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occo values Portia to be more than gold's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orocco is conscious about his own social standing and does not bother with lesser items, showing that he often took things by their face val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 III Scence I: Shylock reveals just how much he valued his daught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 would my daughter were/ dead at my foot, and the jewels in her ear!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s how much Shylock valued his daughter, compared to how much he valued his money and jewe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27320" indent="-32040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t III Scene II: “I have engaged myself to a dear friend,/ engaged my friend to his mere enemy/ to feed my means.” - Bassan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re is a motif of feeding Bassanio's  friend, Antonio, to sustain his own flamboyant lifesty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710000" indent="-56736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ould it mean that Bassanio considers his friend's life worthy to put on the line to continue living a flamboyant lifestyle, even if Antonio had only a slight risk of losing his life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Deal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60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tracts, formal agreemen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TMOV, romantic love is often brought up by Bassanio and Portia in a way that they suggest that it was contractual and had term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 will ne'er come in your bed/ until I see the ring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ring is a motif of a deal, such that the ring is the contract of marriage and love between Bassanio and Port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r the casket tests, Portia declared to the candidates their deals and the terms of the deal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727280" indent="-57312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f you choose wrong/ never to speak to lady afterward/ in way of marriage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Worth of a man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010480"/>
          </a:xfrm>
          <a:prstGeom prst="rect">
            <a:avLst/>
          </a:prstGeom>
          <a:noFill/>
          <a:ln w="0">
            <a:noFill/>
          </a:ln>
        </p:spPr>
        <p:txBody>
          <a:bodyPr lIns="0" rIns="0" tIns="9360" bIns="0" anchor="t">
            <a:normAutofit fontScale="98000"/>
          </a:bodyPr>
          <a:p>
            <a:pPr marL="423000" indent="-317160">
              <a:lnSpc>
                <a:spcPct val="95000"/>
              </a:lnSpc>
              <a:spcAft>
                <a:spcPts val="1426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Is the worth of a man th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Wealth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rich with much carg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ocial Status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Merchant – has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Usurer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Religion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/Bassanio – Christia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Jew – a minority at that time.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Character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Kind / Genero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Evil and Cunning and Vengefu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1" marL="1692720" indent="-561600">
              <a:lnSpc>
                <a:spcPct val="95000"/>
              </a:lnSpc>
              <a:spcAft>
                <a:spcPts val="1137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Beliefs of a man?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Antonio – Usury should be frowned upon and Jews should be discriminat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lvl="2" marL="2539080" indent="-421560">
              <a:lnSpc>
                <a:spcPct val="95000"/>
              </a:lnSpc>
              <a:spcAft>
                <a:spcPts val="850"/>
              </a:spcAft>
              <a:buClr>
                <a:srgbClr val="ffff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</a:rPr>
              <a:t>Shylock – Usury is a profession and Christians bring down the rate of usury in Venic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10:23:35Z</dcterms:created>
  <dc:creator>Ryan Oon</dc:creator>
  <dc:description/>
  <dc:language>en-US</dc:language>
  <cp:lastModifiedBy>Windows User</cp:lastModifiedBy>
  <dcterms:modified xsi:type="dcterms:W3CDTF">2009-09-16T13:19:23Z</dcterms:modified>
  <cp:revision>2</cp:revision>
  <dc:subject/>
  <dc:title>Slide 1</dc:title>
</cp:coreProperties>
</file>