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38320" y="763200"/>
            <a:ext cx="549432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75800" y="4776840"/>
            <a:ext cx="6216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176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7"/>
          </p:nvPr>
        </p:nvSpPr>
        <p:spPr>
          <a:xfrm>
            <a:off x="4398480" y="-360"/>
            <a:ext cx="337212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439848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F7DCB6-9F40-49AD-8F80-9A97BDD766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97A7C8-BC02-4755-9DF1-1C56FE7508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7758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45F6E0-72E1-4D21-9971-6097B039AF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7758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3137F8-ED63-4FB5-8CBF-6B4AB51B24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7758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DB13D5-F806-4F55-9FF3-2341EF4BE2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7758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C3F3B1-BF96-4469-8B19-7699C7235E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7758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7E8B6C-B928-4EA4-A6B7-691815FC26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758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CAF8C4-A711-4121-96E5-143833D813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7758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61804F-E367-4915-9B48-DC6FD2EEC4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7758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048FCC-CED9-4128-A9B7-8AC7944FA5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7758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4085EC-FC01-421A-B71B-EFE399A5B5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7758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1AF36A-1B7D-4295-A4AA-A10B0A6B0F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7758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99CBEE-FC81-4163-AF90-DBAB0652F7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7758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D1006F-C554-4EF0-B955-25934E3B07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7758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B74FD0-4C83-4C02-95A7-F999A98D22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7758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52F2-31BD-4FE9-90B5-400642A13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2898-0CBA-4E89-8A77-6A346AF4D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670B-2422-4FEE-910F-4EF9B0A6F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815C-EAF9-444F-8E85-EE52F9BBF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70A38-5C74-49AD-B837-AF12B8A04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A16BF-7B4C-48F6-8144-201D28033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35B9D-B8CE-46D1-B281-F1F5C91FA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4C4ED-A53A-435F-80ED-5FAE53DF1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20112-0522-4E5C-93CC-BEB527CFF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B8184-04DE-4A98-9B13-0B9981E3F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836FF-A39C-45F9-A282-B1949529A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A904-CC32-49A0-B433-2D8643CDC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E7CBC-FD71-4A2F-BB73-EE20BDB62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018CD-1367-46E4-B62D-9B14B4879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DAC5B-7B17-4787-ACE5-5B17FFE55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89068-0CC7-4337-8903-14F6FBDD3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B2F72-6518-4397-B65C-7E6F95B13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962D-7308-41E7-B15A-498E3A958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B96B-02D2-46CF-9BBD-A10F0AE56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3CC5-0A82-40B5-BD50-8EBF652D5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EF2E-3ECB-4257-A1B5-2894A0FC4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75D6-FCE7-43CE-B950-C31CF93BC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7677-9A91-4662-B5A3-34AECAE6F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4FED-6CCC-450A-A768-7C03C8964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B2A1C1-BFBC-4550-B7ED-83FE6B1B07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A14B0B-3BCA-4F4A-9D48-D8E1E22CD03D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1"/>
          <p:cNvSpPr/>
          <p:nvPr/>
        </p:nvSpPr>
        <p:spPr>
          <a:xfrm>
            <a:off x="503280" y="301680"/>
            <a:ext cx="9070920" cy="645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 Unicode MS"/>
              </a:rPr>
              <a:t>The Merchant of Venice (TMO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 Unicode MS"/>
              </a:rPr>
              <a:t>Money &amp; De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 Unicode MS"/>
              </a:rPr>
              <a:t>_______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 Unicode MS"/>
              </a:rPr>
              <a:t>Aldric Bek (0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 Unicode MS"/>
              </a:rPr>
              <a:t>Lee Choon Kiat (0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 Unicode MS"/>
              </a:rPr>
              <a:t>Loh Zheng Yi (0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 Unicode MS"/>
              </a:rPr>
              <a:t>Keloysius Mak (1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 Unicode MS"/>
              </a:rPr>
              <a:t>Ryan Oon (1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Value of characters to other characters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assanio to Antoni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assanio to Port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tonio to Shyloc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Bassanio to Antonio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atly valued as a friend to Antoni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727280" indent="-573120">
              <a:lnSpc>
                <a:spcPct val="95000"/>
              </a:lnSpc>
              <a:spcAft>
                <a:spcPts val="1137"/>
              </a:spcAft>
              <a:buClr>
                <a:srgbClr val="ffff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y purse, my person, my extremest means/ lie all unlocked to your occassions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727280" indent="-573120">
              <a:lnSpc>
                <a:spcPct val="95000"/>
              </a:lnSpc>
              <a:spcAft>
                <a:spcPts val="1137"/>
              </a:spcAft>
              <a:buClr>
                <a:srgbClr val="ffff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hows that Antonio valued Bassanio so much that he would give him all the monetary aid that he needed to court Port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727280" indent="-573120">
              <a:lnSpc>
                <a:spcPct val="95000"/>
              </a:lnSpc>
              <a:spcAft>
                <a:spcPts val="1137"/>
              </a:spcAft>
              <a:buClr>
                <a:srgbClr val="ffff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n say to me what I should do/ that in your knowledge may by me be done,/ and I am prest unto it, therefore speak.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Bassanio to Portia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rtia gives herself to Bassanio, when they first appear in Belmo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727280" indent="-573120">
              <a:lnSpc>
                <a:spcPct val="95000"/>
              </a:lnSpc>
              <a:spcAft>
                <a:spcPts val="1137"/>
              </a:spcAft>
              <a:buClr>
                <a:srgbClr val="ffff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e half of me is yours, the other half yours- / 'mine own' I would say: but if mine then yours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rtia is willing to travel to Venice to sacve Bassanio's friend Antonio, showing how much she valued Bassani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ntonio to Shylock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5353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 fontScale="98000"/>
          </a:bodyPr>
          <a:p>
            <a:pPr marL="423000" indent="-31716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es Antonio as a 'good man' judging by what he ow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23000" indent="-31716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Shylock, Antonio was only worth three thousand duca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692720" indent="-561600">
              <a:lnSpc>
                <a:spcPct val="95000"/>
              </a:lnSpc>
              <a:spcAft>
                <a:spcPts val="1137"/>
              </a:spcAft>
              <a:buClr>
                <a:srgbClr val="ffff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f you repay me not on such a day...let the forfeit/ be nominated for an equal pound/ of your fair flesh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692720" indent="-561600">
              <a:lnSpc>
                <a:spcPct val="95000"/>
              </a:lnSpc>
              <a:spcAft>
                <a:spcPts val="1137"/>
              </a:spcAft>
              <a:buClr>
                <a:srgbClr val="ffff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 crave the law,/ the penalty and forfeit of my bond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23000" indent="-31716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th just three thousand ducats, Shylock was almost able to take Antonio's lif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1"/>
          <p:cNvSpPr/>
          <p:nvPr/>
        </p:nvSpPr>
        <p:spPr>
          <a:xfrm>
            <a:off x="503280" y="345960"/>
            <a:ext cx="9070920" cy="63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 Unicode MS"/>
              </a:rPr>
              <a:t>The 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 Unicode MS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Table of Contents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fini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mes &amp; motifs involved in TMOV that concerns money and de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ne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alue &amp; wor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orth of a m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alues of some characters to other charact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Definitions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alue: the importance or usefulness of someth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orth: the value of someone or someth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al: A formal agreement or pa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Themes &amp; motifs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ne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alue &amp; wor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Money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9070920" cy="5927760"/>
          </a:xfrm>
          <a:prstGeom prst="rect">
            <a:avLst/>
          </a:prstGeom>
          <a:noFill/>
          <a:ln w="0">
            <a:noFill/>
          </a:ln>
        </p:spPr>
        <p:txBody>
          <a:bodyPr lIns="0" rIns="0" tIns="1008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reed corrupts peop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727280" indent="-573120">
              <a:lnSpc>
                <a:spcPct val="95000"/>
              </a:lnSpc>
              <a:spcAft>
                <a:spcPts val="1137"/>
              </a:spcAft>
              <a:buClr>
                <a:srgbClr val="ffff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h my ducats!” (exclaimed by Shylock when he finds out that Jessica had run away with his money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727280" indent="-573120">
              <a:lnSpc>
                <a:spcPct val="95000"/>
              </a:lnSpc>
              <a:spcAft>
                <a:spcPts val="1137"/>
              </a:spcAft>
              <a:buClr>
                <a:srgbClr val="ffff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esents mercenary side of Shyloc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occupation with mone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727280" indent="-573120">
              <a:lnSpc>
                <a:spcPct val="95000"/>
              </a:lnSpc>
              <a:spcAft>
                <a:spcPts val="1137"/>
              </a:spcAft>
              <a:buClr>
                <a:srgbClr val="ffff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e lends out money gratis and brings down/ the rate of usance here with us in Venice.” (Shylock reveals that he practised usury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727280" indent="-573120">
              <a:lnSpc>
                <a:spcPct val="95000"/>
              </a:lnSpc>
              <a:spcAft>
                <a:spcPts val="1137"/>
              </a:spcAft>
              <a:buClr>
                <a:srgbClr val="ffff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hylock's practice of usury shows how much he is obsessed with making mone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727280" indent="-573120">
              <a:lnSpc>
                <a:spcPct val="95000"/>
              </a:lnSpc>
              <a:spcAft>
                <a:spcPts val="1137"/>
              </a:spcAft>
              <a:buClr>
                <a:srgbClr val="ffff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SG" sz="2000" spc="-1" strike="noStrike">
                <a:solidFill>
                  <a:srgbClr val="ffffff"/>
                </a:solidFill>
                <a:latin typeface="Times New Roman"/>
              </a:rPr>
              <a:t>Was Bassanio’s “love” bought with money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2127240" indent="-573120">
              <a:lnSpc>
                <a:spcPct val="95000"/>
              </a:lnSpc>
              <a:spcAft>
                <a:spcPts val="850"/>
              </a:spcAft>
              <a:buClr>
                <a:srgbClr val="ffff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SG" sz="1600" spc="-1" strike="noStrike">
                <a:solidFill>
                  <a:srgbClr val="ffffff"/>
                </a:solidFill>
                <a:latin typeface="Times New Roman"/>
              </a:rPr>
              <a:t>We can see that Bassanio valued Portia for her money,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3" marL="2584440" indent="-573120">
              <a:lnSpc>
                <a:spcPct val="95000"/>
              </a:lnSpc>
              <a:spcAft>
                <a:spcPts val="575"/>
              </a:spcAft>
              <a:buClr>
                <a:srgbClr val="ffff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SG" sz="1200" spc="-1" strike="noStrike">
                <a:solidFill>
                  <a:srgbClr val="ffffff"/>
                </a:solidFill>
                <a:latin typeface="Times New Roman"/>
              </a:rPr>
              <a:t>As seen when he chooses to mention “richly left” in front of all other of Portia’s valu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3" marL="2584440" indent="-573120">
              <a:lnSpc>
                <a:spcPct val="95000"/>
              </a:lnSpc>
              <a:spcAft>
                <a:spcPts val="575"/>
              </a:spcAft>
              <a:buClr>
                <a:srgbClr val="ffff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SG" sz="1200" spc="-1" strike="noStrike">
                <a:solidFill>
                  <a:srgbClr val="ffffff"/>
                </a:solidFill>
                <a:latin typeface="Times New Roman"/>
              </a:rPr>
              <a:t>Or when he chooses Antonio over Portia in the ring tes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1727280" indent="0">
              <a:lnSpc>
                <a:spcPct val="95000"/>
              </a:lnSpc>
              <a:spcAft>
                <a:spcPts val="1137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1727280" indent="0">
              <a:lnSpc>
                <a:spcPct val="95000"/>
              </a:lnSpc>
              <a:spcAft>
                <a:spcPts val="1137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Money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9070920" cy="5927760"/>
          </a:xfrm>
          <a:prstGeom prst="rect">
            <a:avLst/>
          </a:prstGeom>
          <a:noFill/>
          <a:ln w="0">
            <a:noFill/>
          </a:ln>
        </p:spPr>
        <p:txBody>
          <a:bodyPr lIns="0" rIns="0" tIns="1008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rince of Arrag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1727280" indent="-573120">
              <a:lnSpc>
                <a:spcPct val="95000"/>
              </a:lnSpc>
              <a:spcAft>
                <a:spcPts val="1137"/>
              </a:spcAft>
              <a:buClr>
                <a:srgbClr val="ffff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For who shall go about/ to cozen Fortune, and be honourable/ without the stamp of merit?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1727280" indent="-573120">
              <a:lnSpc>
                <a:spcPct val="95000"/>
              </a:lnSpc>
              <a:spcAft>
                <a:spcPts val="1137"/>
              </a:spcAft>
              <a:buClr>
                <a:srgbClr val="ffff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lay on the word on “Fortune”, which could mean fate or wealth, ie. Portia's inheritan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Leads to either generosity or money-grubb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1727280" indent="-573120">
              <a:lnSpc>
                <a:spcPct val="95000"/>
              </a:lnSpc>
              <a:spcAft>
                <a:spcPts val="1137"/>
              </a:spcAft>
              <a:buClr>
                <a:srgbClr val="ffff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ay him six thousand, and deface the bond./ Double six thousand , and then treble that,/ before a friend of this description/ shall lose a hair through Bassanio's fault.”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1727280" indent="-573120">
              <a:lnSpc>
                <a:spcPct val="95000"/>
              </a:lnSpc>
              <a:spcAft>
                <a:spcPts val="1137"/>
              </a:spcAft>
              <a:buClr>
                <a:srgbClr val="ffff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ortia displays generosity by offering to pay for Antonio's bond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1727280" indent="-573120">
              <a:lnSpc>
                <a:spcPct val="95000"/>
              </a:lnSpc>
              <a:spcAft>
                <a:spcPts val="1137"/>
              </a:spcAft>
              <a:buClr>
                <a:srgbClr val="ffff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hree months from twelve- then let me see the rate.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1727280" indent="-573120">
              <a:lnSpc>
                <a:spcPct val="95000"/>
              </a:lnSpc>
              <a:spcAft>
                <a:spcPts val="1137"/>
              </a:spcAft>
              <a:buClr>
                <a:srgbClr val="ffff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hows that Shylock did not want to lend out money for fre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Value &amp; worth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58104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 fontScale="99000"/>
          </a:bodyPr>
          <a:p>
            <a:pPr marL="427320" indent="-32040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n Act II Scene I, the Prince of Morocco took his choice of the casket test, and in this, he showed just how much he valued Port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10000" indent="-567360">
              <a:lnSpc>
                <a:spcPct val="95000"/>
              </a:lnSpc>
              <a:spcAft>
                <a:spcPts val="1137"/>
              </a:spcAft>
              <a:buClr>
                <a:srgbClr val="ffff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Being ten times undervalued to tried gold?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10000" indent="-567360">
              <a:lnSpc>
                <a:spcPct val="95000"/>
              </a:lnSpc>
              <a:spcAft>
                <a:spcPts val="1137"/>
              </a:spcAft>
              <a:buClr>
                <a:srgbClr val="ffff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orocco values Portia to be more than gold's val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10000" indent="-567360">
              <a:lnSpc>
                <a:spcPct val="95000"/>
              </a:lnSpc>
              <a:spcAft>
                <a:spcPts val="1137"/>
              </a:spcAft>
              <a:buClr>
                <a:srgbClr val="ffff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orocco is conscious about his own social standing and does not bother with lesser items, showing that he often took things by their face val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27320" indent="-32040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ct III Scence I: Shylock reveals just how much he valued his daught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10000" indent="-567360">
              <a:lnSpc>
                <a:spcPct val="95000"/>
              </a:lnSpc>
              <a:spcAft>
                <a:spcPts val="1137"/>
              </a:spcAft>
              <a:buClr>
                <a:srgbClr val="ffff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 would my daughter were/ dead at my foot, and the jewels in her ear!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10000" indent="-567360">
              <a:lnSpc>
                <a:spcPct val="95000"/>
              </a:lnSpc>
              <a:spcAft>
                <a:spcPts val="1137"/>
              </a:spcAft>
              <a:buClr>
                <a:srgbClr val="ffff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hows how much Shylock valued his daughter, compared to how much he valued his money and jewel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27320" indent="-32040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ct III Scene II: “I have engaged myself to a dear friend,/ engaged my friend to his mere enemy/ to feed my means.” - Bassani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10000" indent="-567360">
              <a:lnSpc>
                <a:spcPct val="95000"/>
              </a:lnSpc>
              <a:spcAft>
                <a:spcPts val="1137"/>
              </a:spcAft>
              <a:buClr>
                <a:srgbClr val="ffff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ere is a motif of feeding Bassanio's  friend, Antonio, to sustain his own flamboyant lifesty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10000" indent="-567360">
              <a:lnSpc>
                <a:spcPct val="95000"/>
              </a:lnSpc>
              <a:spcAft>
                <a:spcPts val="1137"/>
              </a:spcAft>
              <a:buClr>
                <a:srgbClr val="ffff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ould it mean that Bassanio considers his friend's life worthy to put on the line to continue living a flamboyant lifestyle, even if Antonio had only a slight risk of losing his life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Deals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ntracts, formal agreem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 TMOV, romantic love is often brought up by Bassanio and Portia in a way that they suggest that it was contractual and had terms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727280" indent="-573120">
              <a:lnSpc>
                <a:spcPct val="95000"/>
              </a:lnSpc>
              <a:spcAft>
                <a:spcPts val="1137"/>
              </a:spcAft>
              <a:buClr>
                <a:srgbClr val="ffff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 will ne'er come in your bed/ until I see the ring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727280" indent="-573120">
              <a:lnSpc>
                <a:spcPct val="95000"/>
              </a:lnSpc>
              <a:spcAft>
                <a:spcPts val="1137"/>
              </a:spcAft>
              <a:buClr>
                <a:srgbClr val="ffff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ring is a motif of a deal, such that the ring is the contract of marriage and love between Bassanio and Port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r the casket tests, Portia declared to the candidates their deals and the terms of the deal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727280" indent="-573120">
              <a:lnSpc>
                <a:spcPct val="95000"/>
              </a:lnSpc>
              <a:spcAft>
                <a:spcPts val="1137"/>
              </a:spcAft>
              <a:buClr>
                <a:srgbClr val="ffff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f you choose wrong/ never to speak to lady afterward/ in way of marriage.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Worth of a man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9360" bIns="0" anchor="t">
            <a:normAutofit fontScale="98000"/>
          </a:bodyPr>
          <a:p>
            <a:pPr marL="423000" indent="-31716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Is the worth of a man the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1692720" indent="-561600">
              <a:lnSpc>
                <a:spcPct val="95000"/>
              </a:lnSpc>
              <a:spcAft>
                <a:spcPts val="1137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Wealth of a man?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2" marL="2539080" indent="-421560">
              <a:lnSpc>
                <a:spcPct val="95000"/>
              </a:lnSpc>
              <a:spcAft>
                <a:spcPts val="850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Antonio – rich with much cargo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1692720" indent="-561600">
              <a:lnSpc>
                <a:spcPct val="95000"/>
              </a:lnSpc>
              <a:spcAft>
                <a:spcPts val="1137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Social Status of a man?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2" marL="2539080" indent="-421560">
              <a:lnSpc>
                <a:spcPct val="95000"/>
              </a:lnSpc>
              <a:spcAft>
                <a:spcPts val="850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Antonio – Merchant – has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2" marL="2539080" indent="-421560">
              <a:lnSpc>
                <a:spcPct val="95000"/>
              </a:lnSpc>
              <a:spcAft>
                <a:spcPts val="850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Shylock – Usurer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1692720" indent="-561600">
              <a:lnSpc>
                <a:spcPct val="95000"/>
              </a:lnSpc>
              <a:spcAft>
                <a:spcPts val="1137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Religion of a man?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2" marL="2539080" indent="-421560">
              <a:lnSpc>
                <a:spcPct val="95000"/>
              </a:lnSpc>
              <a:spcAft>
                <a:spcPts val="850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Antonio/Bassanio – Christian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2" marL="2539080" indent="-421560">
              <a:lnSpc>
                <a:spcPct val="95000"/>
              </a:lnSpc>
              <a:spcAft>
                <a:spcPts val="850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Shylock –Jew – a minority at that time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1692720" indent="-561600">
              <a:lnSpc>
                <a:spcPct val="95000"/>
              </a:lnSpc>
              <a:spcAft>
                <a:spcPts val="1137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Character of a man?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2" marL="2539080" indent="-421560">
              <a:lnSpc>
                <a:spcPct val="95000"/>
              </a:lnSpc>
              <a:spcAft>
                <a:spcPts val="850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Antonio – Kind / Generous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2" marL="2539080" indent="-421560">
              <a:lnSpc>
                <a:spcPct val="95000"/>
              </a:lnSpc>
              <a:spcAft>
                <a:spcPts val="850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Shylock – Evil and Cunning and Vengeful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1692720" indent="-561600">
              <a:lnSpc>
                <a:spcPct val="95000"/>
              </a:lnSpc>
              <a:spcAft>
                <a:spcPts val="1137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Beliefs of a man?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2" marL="2539080" indent="-421560">
              <a:lnSpc>
                <a:spcPct val="95000"/>
              </a:lnSpc>
              <a:spcAft>
                <a:spcPts val="850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Antonio – Usury should be frowned upon and Jews should be discriminated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2" marL="2539080" indent="-421560">
              <a:lnSpc>
                <a:spcPct val="95000"/>
              </a:lnSpc>
              <a:spcAft>
                <a:spcPts val="850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Shylock – Usury is a profession and Christians bring down the rate of usury in Venice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6T10:23:35Z</dcterms:created>
  <dc:creator>Ryan Oon</dc:creator>
  <dc:description/>
  <dc:language>en-US</dc:language>
  <cp:lastModifiedBy>Windows User</cp:lastModifiedBy>
  <dcterms:modified xsi:type="dcterms:W3CDTF">2009-09-16T13:19:23Z</dcterms:modified>
  <cp:revision>2</cp:revision>
  <dc:subject/>
  <dc:title>Slide 1</dc:title>
</cp:coreProperties>
</file>