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8320" y="763200"/>
            <a:ext cx="549432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7F22A-DA20-4FD1-8EDC-D0CFFF4BB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C4F64-F510-4879-88FB-F92F51FE4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512B8-DC47-4B3F-9D1E-425BBC460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9B6A6-BC5F-423C-95BC-A6F193D22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66B82-4A85-4E11-8C2B-7F6E8A7E24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38DED-2C55-4F80-92AB-24627FFB2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2AF5F-6F3E-4AC7-846E-009CFADDE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A8D3B-6B32-4AF6-B02F-EB226DAF4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8DE8C-B68D-4518-B515-52E7DCA2C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1C9BE-A069-4C48-B4C1-BE6ADC6B0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7C431-A07B-4990-AF7D-EFBD604BF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EBE25-B78D-46E0-9E64-2819B9276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73BF6-DB2A-4A37-8246-B9322B46B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A5FAB-D33C-49E5-B170-8BC00BF85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DF5B9-866D-4E06-8D2C-2AA48209B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BBF-3EE0-40AA-A788-35ECAA39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B30-44A9-420D-9559-B5B8792A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950-665B-451C-B848-2617033D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FCA-F3CD-4C6F-8928-0F66783B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E046-D4DC-4867-B416-FADD4BF0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9F13-2102-4559-A598-ACC03585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538E-12B7-4BF8-8A32-E1E1EEF6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757D-7AA1-4660-ACED-A541CE8A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664D-C67A-401C-B2CF-3B73D897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0A39-4657-4E5E-B254-824710FC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D0F2-27F3-4FD1-87EE-3C53C231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7A6-10B5-4838-8A56-3E354429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77E2-C59C-45A1-B432-C7F48A7C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2650-0FE6-49FD-9844-D5CDB87A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A268-962F-4D2B-BC9C-9505C2F3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71AA-500B-4A17-8FF2-B4B9496F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013F-810A-493D-9228-DC86FF19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502-375A-4D85-8495-43819DF3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DDA-B49B-4715-85D4-7276EDB9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B7D-1E04-43CA-88E0-29D91435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96F-8549-4A23-855D-3ED15F8C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C2B-7D49-481C-B04E-DB813A57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0F6-F616-41DF-8040-E24B6862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366-FD26-4DA2-8BD6-3123D7F7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2B76F-C07B-4FB5-BA5A-21652D0D3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2B89A-C95E-444E-89B6-DAD702BC620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The Merchant of Venice (TM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Money &amp; De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Aldric Bek (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Lee Choon Kiat (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Loh Zheng Yi (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Keloysius Mak (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Ryan Oon (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Value of characters to other character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sanio to Anto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sanio to Po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onio to Shy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assanio to Antonio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ly valued as a friend to Anto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purse, my person, my extremest means/ lie all unlocked to your occassion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s that Antonio valued Bassanio so much that he would give him all the monetary aid that he needed to court Po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say to me what I should do/ that in your knowledge may by me be done,/ and I am prest unto it, therefore speak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assanio to Portia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tia gives herself to Bassanio, when they first appear in Belm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half of me is yours, the other half yours- / 'mine own' I would say: but if mine then your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tia is willing to travel to Venice to sacve Bassanio's friend Antonio, showing how much she valued Bassa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ntonio to Shylock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s Antonio as a 'good man' judging by what he ow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ylock, Antonio was only worth three thousand duc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repay me not on such a day...let the forfeit/ be nominated for an equal pound/ of your fair flesh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crave the law,/ the penalty and forfeit of my bon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just three thousand ducats, Shylock was almost able to take Antonio's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able of Content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mes &amp; motifs involved in TMOV that concerns money and de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&amp; wo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th of a 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s of some characters to other charac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: the importance or usefulness of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th: the value of someone or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l: A formal agreement or p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mes &amp; motif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&amp; wo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one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9070920" cy="59277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ed corrupts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h my ducats!” (exclaimed by Shylock when he finds out that Jessica had run away with his mone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ents mercenary side of Shy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occupation with mon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 lends out money gratis and brings down/ the rate of usance here with us in Venice.” (Shylock reveals that he practised usur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ylock's practice of usury shows how much he is obsessed with making mon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Times New Roman"/>
              </a:rPr>
              <a:t>Was Bassanio’s “love” bought with mone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2127240" indent="-57312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SG" sz="1600" spc="-1" strike="noStrike">
                <a:solidFill>
                  <a:srgbClr val="ffffff"/>
                </a:solidFill>
                <a:latin typeface="Times New Roman"/>
              </a:rPr>
              <a:t>We can see that Bassanio valued Portia for her money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2584440" indent="-573120">
              <a:lnSpc>
                <a:spcPct val="95000"/>
              </a:lnSpc>
              <a:spcAft>
                <a:spcPts val="575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SG" sz="1200" spc="-1" strike="noStrike">
                <a:solidFill>
                  <a:srgbClr val="ffffff"/>
                </a:solidFill>
                <a:latin typeface="Times New Roman"/>
              </a:rPr>
              <a:t>As seen when he chooses to mention “richly left” in front of all other of Portia’s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2584440" indent="-573120">
              <a:lnSpc>
                <a:spcPct val="95000"/>
              </a:lnSpc>
              <a:spcAft>
                <a:spcPts val="575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SG" sz="1200" spc="-1" strike="noStrike">
                <a:solidFill>
                  <a:srgbClr val="ffffff"/>
                </a:solidFill>
                <a:latin typeface="Times New Roman"/>
              </a:rPr>
              <a:t>Or when he chooses Antonio over Portia in the ring 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one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9070920" cy="59277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ince of Arrag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 who shall go about/ to cozen Fortune, and be honourable/ without the stamp of merit?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lay on the word on “Fortune”, which could mean fate or wealth, ie. Portia's inheri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ads to either generosity or money-grubb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y him six thousand, and deface the bond./ Double six thousand , and then treble that,/ before a friend of this description/ shall lose a hair through Bassanio's fault.”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rtia displays generosity by offering to pay for Antonio's bon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ree months from twelve- then let me see the rate.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ows that Shylock did not want to lend out money for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Value &amp; worth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8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 fontScale="99000"/>
          </a:bodyPr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Act II Scene I, the Prince of Morocco took his choice of the casket test, and in this, he showed just how much he valued Port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ing ten times undervalued to tried gold?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rocco values Portia to be more than gold's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rocco is conscious about his own social standing and does not bother with lesser items, showing that he often took things by their face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t III Scence I: Shylock reveals just how much he valued his daugh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 would my daughter were/ dead at my foot, and the jewels in her ear!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s how much Shylock valued his daughter, compared to how much he valued his money and jew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t III Scene II: “I have engaged myself to a dear friend,/ engaged my friend to his mere enemy/ to feed my means.” - Bassan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 is a motif of feeding Bassanio's  friend, Antonio, to sustain his own flamboyant lifesty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uld it mean that Bassanio considers his friend's life worthy to put on the line to continue living a flamboyant lifestyle, even if Antonio had only a slight risk of losing his lif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al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acts, formal agre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TMOV, romantic love is often brought up by Bassanio and Portia in a way that they suggest that it was contractual and had term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will ne'er come in your bed/ until I see the r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ring is a motif of a deal, such that the ring is the contract of marriage and love between Bassanio and Por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casket tests, Portia declared to the candidates their deals and the terms of the de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you choose wrong/ never to speak to lady afterward/ in way of marriage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orth of a ma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93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Is the worth of a man th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Wealth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 – rich with much carg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ocial Status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 – Merchant – ha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ylock – Usur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Religion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/Bassanio – Christia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ylock –Jew – a minority at that tim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Character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 – Kind / Genero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ylock – Evil and Cunning and Vengefu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eliefs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 – Usury should be frowned upon and Jews should be discriminat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ylock – Usury is a profession and Christians bring down the rate of usury in Venic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0:23:35Z</dcterms:created>
  <dc:creator>Ryan Oon</dc:creator>
  <dc:description/>
  <dc:language>en-US</dc:language>
  <cp:lastModifiedBy>Windows User</cp:lastModifiedBy>
  <dcterms:modified xsi:type="dcterms:W3CDTF">2009-09-16T13:19:23Z</dcterms:modified>
  <cp:revision>2</cp:revision>
  <dc:subject/>
  <dc:title>Slide 1</dc:title>
</cp:coreProperties>
</file>