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8F55CC-C42E-4E8B-B456-84B4551B65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8B0BF-4C71-44B3-9D44-A974A3970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1615C9-50EC-4998-8EFF-D6203233AA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B43A8-5DBC-4974-97FC-353D0996CB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F42EBA-087D-4B7A-9F1A-DEC8BA18F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29F94-B85D-46AA-A189-D8F6A5CE79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746000-2CE5-47E8-AC48-C772B964C3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341460-2D3C-4AA9-893F-F1FB68F999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F8F20-FFF2-4922-A3CB-0C98CFD66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2338AA-B367-4893-90D3-C51F87AB5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906248-AA41-4695-A4C1-1ECCC7A0BD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CED00-69AE-47BE-B6E1-817161E03C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46803D-8F24-425F-9165-3724376A99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8C3C7-65D1-4461-93D6-1ED14E1A37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64E0BB-5ADF-42B5-B79C-D395059DAD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D200-E0C7-4493-9D3E-CBF51B0E7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D2C6-2471-4832-B922-77020741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12EE-ABF8-4076-90F7-ED0C4CBE1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90A-2680-4981-8215-D3BD8E20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43CEB-3910-4B0F-AF5A-1646B96F8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919F-CFFC-4A2F-86B9-B077B6E5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AE323-04FC-4CD7-AE02-C6D95F9B9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59B26-D50C-422E-A16E-A10A572F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996A-51A8-4E04-94C7-0445E0B3D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FFA54-F82F-4E11-9A22-5DB296DB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CF5D3-DC0D-4F9D-89D9-C4851ED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EFC8-CFFA-4B38-9DC5-77EF3E98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577-37E8-4C4B-87F5-67AFAF72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CDAE-18FC-4254-84CE-BE513A9E2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4E207-ECC9-46BE-9158-D6629062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86E5B-9DA1-4EDD-A1CB-4AB0B936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B2E2-BF9B-43F3-BD96-2E326D100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6B30-F5E3-46AE-98F4-CB8FE9DF3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B01-4581-494E-8041-910F8DCD5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3BA4-5775-4729-ACA1-5BC3FB77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D9CD-CDA9-4F20-8C61-4BF099F74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A9F8-062B-4A97-A3E0-52272CA7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B9C-B011-4E44-9FAB-A925CA87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D1F7-F7D2-4A7B-933A-B5D22E4D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535DB1-A8B5-493C-B595-E77D9B7111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EC3638-4E5A-4A0C-A78E-AC67B7A40B06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Merchant of Venice (T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Money &amp;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Aldric Bek (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ee Choon Kiat (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oh Zheng Yi (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Keloysius Mak (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Ryan Oon (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of characters to other charact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ly valued as a friend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purse, my person, my extremest means/ lie all unlocked to your occa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s that Antonio valued Bassanio so much that he would give him all the monetary aid that he needed to court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say to me what I should do/ that in your knowledge may by me be done,/ and I am prest unto it, therefore speak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gives herself to Bassanio, when they first appear in Belm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half of me is yours, the other half yours- / 'mine own' I would say: but if mine then your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is willing to travel to Venice to sacve Bassanio's friend Antonio, showing how much she valued Bassa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s Antonio as a 'good man' judging by what he 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ylock, Antonio was only worth three thousand duc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repay me not on such a day...let the forfeit/ be nominated for an equal pound/ of your fair flesh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rave the law,/ the penalty and forfeit of my bon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just three thousand ducats, Shylock was almost able to take Antonio's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ble of Cont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s &amp; motifs involved in TMOV that concerns money and 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s of some characters to other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: the importance or usefulness of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: the value of someone or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: A formal agreement or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mes &amp; motif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d corrupts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h my ducats!” (exclaimed by Shylock when he finds out that Jessica had run away with his mone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s mercenary side of Shy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occupation with m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lends out money gratis and brings down/ the rate of usance here with us in Venice.” (Shylock reveals that he practised usur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ylock's practice of usury shows how much he is obsessed with making 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Times New Roman"/>
              </a:rPr>
              <a:t>Was Bassanio’s “love” bought with mone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7240" indent="-57312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600" spc="-1" strike="noStrike">
                <a:solidFill>
                  <a:srgbClr val="ffffff"/>
                </a:solidFill>
                <a:latin typeface="Times New Roman"/>
              </a:rPr>
              <a:t>We can see that Bassanio valued Portia for her money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As seen when he chooses to mention “richly left” in front of all other of Portia’s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Or when he chooses Antonio over Portia in the ring 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ince of Arrag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who shall go about/ to cozen Fortune, and be honourable/ without the stamp of merit?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lay on the word on “Fortune”, which could mean fate or wealth, ie. Portia's inheri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ads to either generosity or money-grubb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y him six thousand, and deface the bond./ Double six thousand , and then treble that,/ before a friend of this description/ shall lose a hair through Bassanio's fault.”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rtia displays generosity by offering to pay for Antonio's bo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ree months from twelve- then let me see the rate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ws that Shylock did not want to lend out money for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8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ct II Scene I, the Prince of Morocco took his choice of the casket test, and in this, he showed just how much he valued Port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ing ten times undervalued to tried gold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values Portia to be more than gold's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is conscious about his own social standing and does not bother with lesser items, showing that he often took things by their face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ce I: Shylock reveals just how much he valued his dau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would my daughter were/ dead at my foot, and the jewels in her ear!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s how much Shylock valued his daughter, compared to how much he valued his money and jew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e II: “I have engaged myself to a dear friend,/ engaged my friend to his mere enemy/ to feed my means.” - Bassan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 is a motif of feeding Bassanio's  friend, Antonio, to sustain his own flamboyant lifesty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ld it mean that Bassanio considers his friend's life worthy to put on the line to continue living a flamboyant lifestyle, even if Antonio had only a slight risk of losing his lif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s, formal agre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MOV, romantic love is often brought up by Bassanio and Portia in a way that they suggest that it was contractual and had term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ill ne'er come in your bed/ until I see the r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ing is a motif of a deal, such that the ring is the contract of marriage and love between Bassanio and Por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casket tests, Portia declared to the candidates their deals and the terms of the de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you choose wrong/ never to speak to lady afterward/ in way of marriag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s the worth of a man th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Wealth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rich with much carg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ocial Statu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Merchant – ha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ligion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/Bassanio – Christia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Jew – a minority at that tim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haracter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Kind / Genero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Evil and Cunning and Vengefu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elief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Usury should be frowned upon and Jews should be discrimina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y is a profession and Christians bring down the rate of usury in Veni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23:35Z</dcterms:created>
  <dc:creator>Ryan Oon</dc:creator>
  <dc:description/>
  <dc:language>en-US</dc:language>
  <cp:lastModifiedBy>Windows User</cp:lastModifiedBy>
  <dcterms:modified xsi:type="dcterms:W3CDTF">2009-09-16T13:19:23Z</dcterms:modified>
  <cp:revision>2</cp:revision>
  <dc:subject/>
  <dc:title>Slide 1</dc:title>
</cp:coreProperties>
</file>