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E23B-7671-4E79-BB30-1ADAF76AEC5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5F79-F3AD-4EC3-A02D-04F4E8B75345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3C4D3-ECA2-4BF6-8246-1955768BE30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ECE2-37DD-4454-8F02-056C6276C4E8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885F-D8D6-41BF-BC6D-15E714A0F73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8628-9C16-4C22-A34B-3F369ABCBCF4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0908-C006-45A4-B54A-FCB627C1724B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4E3-4222-47E3-ACE8-30B6835A25F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788-7439-461E-B7BC-16CE8A908421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2FF13-9CCD-4362-B098-B25FF11BC1D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4E30-2407-4F1D-B61F-06A2AFCA354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4B4B-4EAC-46E8-A302-9F92E82E3A0C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F93-D935-4B55-B5C1-F270B85C3E4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A964-43B2-4EBF-A834-DC6DC362A1DF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3989-6BB3-480D-B8F3-FA4BDED4BAA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452D-FCC2-4692-A179-C1AC3ECBAC4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96A6-C489-4F10-9C7E-048EF3E1A41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D9DB-0706-4916-B7AC-E5D4C048DB89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748F-D4F0-4426-8433-ACD4325059BE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E6C6-322C-49A7-A210-A047AF77E832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409F2-0B52-4695-8C9B-E2DB0D4C5EE7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9E9D-AB74-4C3B-BA1D-8664C55F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CE54-CACB-4BF9-9A4B-326CB3C8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3AC4-1AA5-4177-A78E-A2635ACC1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A605-C429-46E2-8A1A-B714E692F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818F-6D37-40AD-A7D3-0F7E7D430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70F15-446C-411F-AB69-C2081295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A6A4-51DE-4A63-AC72-54545DC8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CA53-2C35-4F38-88CD-BCC2E940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481A-DF55-4F1A-916C-AE45982B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4F4C1-70B6-48B9-96C7-F7CBE25DC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718B-58BB-48D3-B05A-EBDB83E7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97D0-BE40-4982-9D71-E9337E01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09DAF-A402-4745-BA6A-2BC628D4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5915-AD6C-4CE0-9D21-F2375140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E2749-CAB2-425C-A995-2B372D0B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2649-0456-4D82-924E-DA75D39F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E9583-3A4C-4EF4-805C-EAF4CBE58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E8F14-A9FD-4505-9D59-134A2D6BB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49ABD-D447-4144-BF0D-9CEDAE134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6B2FC-6F56-43AF-826C-CEECA5E3F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F1C57-DDD1-4A88-A2F6-19911136A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B3B87E-6FB9-4BF4-AE9F-0DA3875D1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7263-39A1-4B0C-98AD-1C7D6D43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38B6A-C57A-42E0-84D6-03585828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BA0B4-71DD-4AC1-AADD-C6F6E1D01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EDA9A-78CA-4948-B76F-9DF0EFC1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43947-1891-4CAB-AC2D-745633A7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23B0-8D18-40AB-AF31-A56EFAAD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F3DF59-BA99-4FC5-B80A-2D4020AD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7BB92-8C95-4F60-A51D-CDE317F8B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7296-AC46-40FD-9B42-D440D6CF2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26BB3-B233-4D08-A304-4CFB6614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20E47-546D-4FB6-9D64-161D812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4DE5-DE76-4FEC-875E-03EAF4006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83681A-A9D0-4557-8B7F-DB2F9853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D58BA-B0CE-4C87-99A1-10C56C16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C05B0F-14D3-4942-8C6B-4DB85B94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8230C-BA90-4A1F-830C-5843BAE9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0CD8E-426F-42DC-AB18-0AFC1D98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263D4-2545-42E9-A82D-D58949555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5E050-1947-4110-81A0-45E8C6271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F356-10AF-4D86-AB29-BD508D66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464A8-C499-441B-B893-3676F49E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708A0-6732-46D0-80C2-062FB1E4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056-2AE5-4863-96B1-F4BD5BD0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06F2D-D62E-4BDA-973E-3EF58992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C1E3B4-ACFB-4742-AA6C-A9516692C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02C27-F9DD-4DA4-823B-4ECB597C4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D7F00-CA6B-4B35-833A-0B8DE45F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AC13A-0F7C-44BA-B10C-7AF82BB4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582D4-5BF7-4680-80B3-7231DC5F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DD001-05AC-4019-B99B-3FED7D16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3BEF4-6773-440A-9104-D7564CC5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8B76A-021C-4DA4-B479-5C9C3029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4589D-D550-4675-83DE-F69AC6AC2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C96-12E3-4D54-9B77-F3F3D8EC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04F0-FC34-4B05-A6BE-6D0178741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202A-0AC5-4BA3-8B50-3A0C6F5A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822E-26A6-4EA2-96DC-577980B0A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4884-186F-4122-BB1B-A780F5D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261C-79CC-496A-AE6E-FDD719026C4E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57520" y="-12600"/>
            <a:ext cx="6499080" cy="6883200"/>
            <a:chOff x="2657520" y="-12600"/>
            <a:chExt cx="6499080" cy="68832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57520" y="-12600"/>
              <a:ext cx="64990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F683D-A802-433E-A256-B73DF4964A06}" type="slidenum">
              <a:rPr b="0" lang="en-SG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0E45-B66F-449C-BF0A-B7A763186E57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EDF01-5FB6-42A1-95E1-7AF48BB39B99}" type="slidenum">
              <a:rPr b="0" lang="en-SG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43920" y="-12600"/>
            <a:ext cx="1012680" cy="6883200"/>
            <a:chOff x="8143920" y="-12600"/>
            <a:chExt cx="1012680" cy="68832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43920" y="-12600"/>
              <a:ext cx="1012680" cy="688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4F02-9721-4BD9-A5AB-27CFD3576BBD}" type="slidenum">
              <a:rPr b="0" lang="en-SG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2680" y="523800"/>
            <a:ext cx="5407200" cy="321948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39880"/>
            <a:ext cx="5432400" cy="310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y: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Lim Jun Weng (06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Daniel Lye(10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Ng Yau Xuan(13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eith Ong(14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remy Yap(24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two different parent and child relationship are much in contras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chooses to respect her father’s wishes possibly at the expense of her lifelong happin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chooses to go against her father for her lov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and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renzo and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and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tried not to give away the ring until Antonio told him to do so –loyalty t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defended Bassanio’s best friend Antonio although it was dangerous to go as a woman –Self-sacrifice for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lso showed her love towards Bassanio by promising him what she owns is now also what he owns (self-sacrific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ood sir, this ring was given me by my w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when she put it on she made me vow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at I should neither sell, nor give, nor lose it.” –Bassanio on the r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self, and what is mine, to you and yours/Is now converted” – Portia towards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74680" y="390600"/>
            <a:ext cx="7478640" cy="119376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would rather steal from her father and leave with Lorenzo for love than stay on in her hou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r I am much ashamed of my exchang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love is blind, and lovers cannot se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pretty follies that themselves commit;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tiano is sorry for giving away her ring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romises to keep it forev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e the only one to make love with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ll, while I live I’ll fear no other th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 sore, as keeping safe Nerissa’s ring.” – Gratiano promising to Neri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 and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01600" y="249120"/>
            <a:ext cx="7478640" cy="11890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onio, though knowing he has not enough money to help Bassanio, still promised him he would give money for him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otonio was willing to go to his enemy to get money for Bassanio to woo Porti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sanio was willing to sacrifice himself for the release of Antonio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Definition of Lov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ve, as portrayed in this play, is ideally selfles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t involves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self-sacrific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sharing, humility and devo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latonic love is also expressed in this play through the strong bonds between Bassanio and Antonio (spiritual lov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purse, my person, my extremest means,/ Lie all unlocked to your occasions” –Anotonio promising 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pat on me on Wednesday last…and for th[is] courters[y]/ I’ll lend you thus much money?” Shylock saying sarcastically towards Anto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Jew shall have my flesh, blood, bones, and all”-Bassan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3" descr=""/>
          <p:cNvPicPr/>
          <p:nvPr/>
        </p:nvPicPr>
        <p:blipFill>
          <a:blip r:embed="rId1"/>
          <a:stretch/>
        </p:blipFill>
        <p:spPr>
          <a:xfrm>
            <a:off x="2712960" y="2743200"/>
            <a:ext cx="37116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ent-chil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omanti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riendship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and 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ortia appears reluctant to obey her father’s legacy of the three caske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ever, she still does so (self-sacrifice) as she was only frustrated by the fact she cannot choose her own husba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s shows us the love and respect between Portia and her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may neither choose who I would nor refuse who I dislike, so is the will of a living daughter curbed by the will of a dead father.” – Portia on her father’s legac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 it not hard, Nerissa, that I cannot choose one nor refuse none?”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 Portia, in a dilemm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31840" y="285840"/>
            <a:ext cx="7480080" cy="1189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hates her Jewish father for restricting her freed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 love between them has strained though they are father and daught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ylock loves his daughter and seems oblivious that she is drifting further and further away from 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Our house is hell” -Jessic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lack, what heinous sin is it in 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o be ashamed to be my father’s child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ut though I am a daughter to his blood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am not to his manners.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-Jessica on her extreme dislike of her father’s act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y sober house.” – Shylock, suggesting he has no tolerance for merriment him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01600" y="311040"/>
            <a:ext cx="7510320" cy="1457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ssica my girl”, </a:t>
            </a:r>
            <a:r>
              <a:rPr b="0" lang="en-SG" sz="2600" spc="-1" strike="noStrike">
                <a:solidFill>
                  <a:srgbClr val="000000"/>
                </a:solidFill>
                <a:latin typeface="Trebuchet MS"/>
              </a:rPr>
              <a:t>-Shyloc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ar you me, Jessica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ock up my doors; and when you hear the dru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d the vile squealing of the wry-necked fife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…” –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arious restrictions on Jessic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21:56:52Z</dcterms:created>
  <dc:creator>Keith</dc:creator>
  <dc:description/>
  <dc:language>en-US</dc:language>
  <cp:lastModifiedBy>ngsc</cp:lastModifiedBy>
  <dcterms:modified xsi:type="dcterms:W3CDTF">2009-09-21T18:28:39Z</dcterms:modified>
  <cp:revision>14</cp:revision>
  <dc:subject/>
  <dc:title>Love</dc:title>
</cp:coreProperties>
</file>