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B01D-AC30-4632-9898-23229BF7EDB5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20FB-B9E5-4438-B4D2-69600615F670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8BC9-38E5-4DBC-B9F1-9376BC0FA25A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E3C6-B185-4E76-AF2B-234A96C8B1AA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C107-0BD3-4C36-A437-C1CF3B2EFC2A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40B1-9BA0-4773-A7CB-019F73A5BC2A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4B4D-582F-4798-A02B-5B3C5A1CD05A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5738-E48E-49E9-B380-32BA37CA56D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7889-D2D1-42B4-B77E-817796F5D99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878E-850B-4C06-88EC-6382AAA5C9D9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C230-F5AA-45AA-8F75-7C3CE57ABF0C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E7E8-D5D8-44C6-B57D-B0AD34D5950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4DC0-24B1-46D1-BE8C-313D2BB448B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FA52-4C39-4B45-9942-E95D13862FC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8C22-C41D-4483-97C9-843F4AFF52F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32E-D8A4-49D3-9E9C-C23A5556C0B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93B3-121E-4F6E-A10A-1D45F4620D6C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2475-7DB5-44A8-A81D-3D12055E2499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B995-11BA-4EC4-ADB6-E9644589418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E181-D815-44DA-AF4E-9B89F2CBB01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0758-3F73-4547-BFF7-A75FCABA93B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586-AE65-43F5-9885-F444E463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EA8-781D-4C85-906B-90F60767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65B-6ACA-4B6A-9FF3-4B14AB21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432-FCB3-452F-A140-69283750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B17A-D87B-44A8-8165-6EBC1414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3D5A-FE8B-4DCB-AD9E-28D6D991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EA83-DBCC-42D4-BA33-40CD806F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EDB4-3809-4316-B2F3-B8480560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D9D0-8AA5-4AB5-9A19-E4DC2343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DAC1-F1C3-4BAD-8EBE-C89A9B95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D7DE-82BE-4F73-8A28-2478206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57B-62C2-45BD-863C-1088CF5B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B813-4DE9-4CC7-9475-1FC1693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3638-463C-4CBA-AAEB-B7DF9F2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3FA9-D63C-4D1B-8427-D55D5AFD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B7A9-9202-45F9-BEB4-DABA8146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D1E4-4C7A-469B-8ED5-4B6E37C5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908E-5D82-4D73-82F8-64686469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F3A4-A249-4011-9A8D-93E76A6E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01AE-A43C-42A9-B769-41C59BCC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2CBF-1273-4CA8-B28F-2575ABF6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1B97-FFD3-414F-AEF7-59A124FB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815-5366-445B-A17A-557C05B6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476C-4DFD-4998-8088-C08A6297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A80B-38FA-4B87-BC07-0FE642F8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9081-E907-40D3-A13A-54736564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1281-22F6-485E-8B48-741F0DE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CCA1-5E8E-4C7B-B391-718A8921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8D8F-BFBE-4060-9A2B-AEB02B66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CA84-1493-48B3-8593-979BF27C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9633-B578-4D95-87A6-4F2CC6B5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5E6A-7048-4C43-A465-64E0D2CB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9D43D-4F96-4FBD-9626-28B9F8A0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62B-CEF5-436E-8302-A50B002D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32681-3179-41A2-A90A-DFEE62F0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43467-64F7-4891-935F-9E097616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3B33-E62D-444C-B9CB-988BB22F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2018-2EDE-42CD-B49E-C07D51BC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C3E2-EC22-4324-B628-FD97AAB1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4C58-1661-4748-8DCA-2FCABE6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193FD-FBF2-4CFF-8CD1-240DFEE4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4DF3-C546-4BDB-91A8-1CB8AAC0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3B94-4164-42FE-A16E-6F88D0AC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42A25-BA85-432D-8950-E97FCF62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CB5-2883-41A0-9817-0DA89FCD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7E2D-ADF9-469E-BE79-EC9813A6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D6DA-6069-4F56-8658-8A27789E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0E4CF-55FA-4F0E-AAC6-2701FBF4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7CB54-ECDF-4946-A5B9-667A9218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4837E-B88B-4868-B0CE-8F9E615C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56383-9431-4F13-8983-E688987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7FF0-DF93-4D3D-9BB7-A5F88A2E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4491A-60AE-4EC5-90B2-42345A3F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276A6-AA05-4614-A3E8-9F7DF6CB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DED2-FA55-47DC-9284-1A36D47A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B84-3036-427D-BDD3-0308AF53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1970-8836-4CC9-BDA3-4FA277D1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AF6-E7A3-4E60-897C-B234D165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422-9817-4BD9-B492-1EF3639D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479-8B69-4EAE-85A1-FD778454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171C-A2E0-408A-A712-BAB3CC729FC6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57520" y="-12600"/>
            <a:ext cx="6499080" cy="6883200"/>
            <a:chOff x="2657520" y="-12600"/>
            <a:chExt cx="6499080" cy="68832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57520" y="-12600"/>
              <a:ext cx="64990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AB42-110F-4FFC-8DA1-B5499B802C37}" type="slidenum">
              <a:rPr b="0" lang="en-SG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BA8-79BB-4F9F-B59D-BFA1BCB8458F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CC42-E14E-4708-B541-28790F07E6EB}" type="slidenum">
              <a:rPr b="0" lang="en-SG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1CAB-6D05-4436-9B4D-F2977AC218F5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2680" y="523800"/>
            <a:ext cx="5407200" cy="3219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432400" cy="310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im Jun Weng (06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aniel Lye(10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Ng Yau Xuan(13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eith Ong(14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remy Yap(24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wo different parent and child relationship are much in contra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chooses to respect her father’s wishes possibly at the expense of her lifelong happin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chooses to go against her father for her lo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and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renzo and 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atiano and Neris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tried not to give away the ring until Antonio told him to do so –loyalty t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defended Bassanio’s best friend Antonio although it was dangerous to go as a woman –Self-sacrifice for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lso showed her love towards Bassanio by promising him what she owns is now also what he owns (self-sacrific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od sir, this ring was given me by my wif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when she put it on she made me vo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at I should neither sell, nor give, nor lose it.” –Bassanio on the 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self, and what is mine, to you and yours/Is now converted” – Portia towards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7478640" cy="1193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would rather steal from her father and leave with Lorenzo for love than stay on in her ho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 I am much ashamed of my exchang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t love is blind, and lovers cannot se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pretty follies that themselves commit;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atiano is sorry for giving away her r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mises to keep it forev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 the only one to make love with 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ll, while I live I’ll fear no other th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 sore, as keeping safe Nerissa’s ring.” – Gratiano promising to Neris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o and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747864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o, though knowing he has not enough money to help Bassanio, still promised him he would give money for him to wo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otonio was willing to go to his enemy to get money for Bassanio to wo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was willing to sacrifice himself for the release of Antoni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Definition of Lov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ve, as portrayed in this play, is ideally selfl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nvolves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lf-sacrific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sharing, humility and devo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latonic love is also expressed in this play through the strong bonds between Bassanio and Antonio (spiritual lov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 purse, my person, my extremest means,/ Lie all unlocked to your occasions” –Anotonio promising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pat on me on Wednesday last…and for th[is] courters[y]/ I’ll lend you thus much money?” Shylock saying sarcastically towards Anto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Jew shall have my flesh, blood, bones, and all”-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2712960" y="2743200"/>
            <a:ext cx="3711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ent-chil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mant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iend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nd her fa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and Shy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ppears reluctant to obey her father’s legacy of the three caske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ever, she still does so (self-sacrifice) as she was only frustrated by the fact she cannot choose her own husba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s shows us the love and respect between Portia and her fa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may neither choose who I would nor refuse who I dislike, so is the will of a living daughter curbed by the will of a dead father.” – Portia on her father’s lega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s it not hard, Nerissa, that I cannot choose one nor refuse none?”</a:t>
            </a:r>
            <a:r>
              <a:rPr b="0" lang="en-SG" sz="2600" spc="-1" strike="noStrike">
                <a:solidFill>
                  <a:srgbClr val="000000"/>
                </a:solidFill>
                <a:latin typeface="Trebuchet MS"/>
              </a:rPr>
              <a:t>- Portia, in a dilemm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hates her Jewish father for restricting her freed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love between them has strained though they are father and daugh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ylock loves his daughter and seems oblivious that she is drifting further and further away from 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ur house is hell” -Jessic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ack, what heinous sin is it in 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be ashamed to be my father’s child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t though I am a daughter to his blood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am not to his manners.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ssica on her extreme dislike of her father’s ac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 sober house.” – Shylock, suggesting he has no tolerance for merriment hims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my girl”, </a:t>
            </a:r>
            <a:r>
              <a:rPr b="0" lang="en-SG" sz="2600" spc="-1" strike="noStrike">
                <a:solidFill>
                  <a:srgbClr val="000000"/>
                </a:solidFill>
                <a:latin typeface="Trebuchet MS"/>
              </a:rPr>
              <a:t>-Shy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ar you me, Jessica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ck up my doors; and when you hear the dru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the vile squealing of the wry-necked fif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…”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rious restrictions on 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21:56:52Z</dcterms:created>
  <dc:creator>Keith</dc:creator>
  <dc:description/>
  <dc:language>en-US</dc:language>
  <cp:lastModifiedBy>ngsc</cp:lastModifiedBy>
  <dcterms:modified xsi:type="dcterms:W3CDTF">2009-09-21T18:28:39Z</dcterms:modified>
  <cp:revision>14</cp:revision>
  <dc:subject/>
  <dc:title>Love</dc:title>
</cp:coreProperties>
</file>