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DB15-9335-44E1-B450-2B041D05ACA7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25AC-795F-4937-97FF-45F2275764A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5E02-419E-498A-90CB-7B80AA952C5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FC77D-5372-44CF-9442-EBA498D9427A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35A7D-C434-4DFF-94C0-2BA856E03033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94D6B-53D5-451E-87A9-ACCFDEB6A9A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DE0E4-0252-49DA-9904-D7C2C1C1D3D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6748-09A0-4BF7-B73D-76A91C07B263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08C44-F1E6-4E64-9B8B-0FDE7FFBE4C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7E15-D023-41A1-9422-8D4E04D3AF0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9271-AAD1-45B2-9551-D8DA66DF63D0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DD3D8-EE91-4401-81EE-EFE033693D67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8757-3BD7-4C63-873D-0147624DD92D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21B2-8E19-4315-8528-D71769E70407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F3D5-E7A3-4F7A-A2F4-99BBA01AB06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EE8B-52CD-4BA5-B2BC-0F2FC1ECE649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C8C6-5A47-4388-9FB8-BF543230676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0176-C2CF-4C80-9AC9-DC6C1DF6B91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C7BA-52A7-4794-8DD2-6F3F06063CE6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BC59-E943-4951-86EE-FA8E935BEDF5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E131-6F1D-4104-91B1-410BDB44E69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00E-0E2F-4C32-864F-9EEE8B25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F3F6-305C-4113-86B1-67A21407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C94B-2B15-4B18-8BCF-4383062A3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729E-C0EC-4020-A0B4-B80E3663A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31926-C1A3-4B90-885A-31E6FF5E8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3058-DDC7-43DC-B25D-81C50D46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EDDEA-2469-4D80-9787-CBC6C8E3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E6CB3-A09D-4674-BD8E-AA7A9DA8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401A-7780-4D1F-9EF2-58572251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0BCE-D778-45D9-BF3D-4CA9F3FD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873C8-1D0B-4DE1-8B3D-7A53CE87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296B-B633-460A-9FCA-7453ADE5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64F07-63A4-4F74-9FBF-B7556234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9A53-8A4A-4C26-B021-6077D094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438F-2732-470F-B619-4B417451A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EFE7-97C8-4084-9B41-5A081DC85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66233-475B-422E-A787-36F53E046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EFBF0-9303-4D1C-9C99-48DF51DC3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C955-2ED9-4F2F-A4AD-268E9DB3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AE2F9-F5AB-4459-B554-DC628E17F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ADC1C-2D7A-4188-B315-56788042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6ED1D-A53B-40C6-B9D4-0DE76C379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36C3-D8D6-4205-9A93-679005C1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A9DBF-C27C-4D06-9114-76EBBB0D8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2DF3-E9A4-45B4-B027-D77F60BC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946C-0B3B-423A-9512-36F2EBEDB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6EC10-4890-4FA4-962A-3A39ACBA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30636-1C16-4E63-8939-46A2B1B9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41E08-D6ED-4FCF-B9C8-E52FA9281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E6DE8-5ADD-44F0-A2A8-D724FA5F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3DE4A-DD3E-47EB-A26D-C65B31CB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B0682-4CF1-4793-887A-7B5B3BF2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D36CE-343D-47A4-BC56-C15824ADE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06EA-506A-43FA-BB84-5F82494E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4AE53-2E91-4801-8CD9-52FA5765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FE512-9897-43F3-A15D-19E02B099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08DDE-E9F2-4FCF-81C6-09F26961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DF2C8-A495-455B-BF7E-384DBC84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F78E4-22B3-4CC7-AB3A-9BE5428E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6C062-9388-4B56-A615-3EEF77377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B5643-6DBF-4178-8FA7-244AB25E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E8717-DE1E-4E53-BC0E-04B43C6D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F7A41-CAD9-4FAF-A1AF-4237DB774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31E40-DE34-4EBB-A42D-1100B4C41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767-A4C7-4C3D-A58B-9757B05F3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30163-951A-4599-B414-3DD3D702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C4DE77-AD1D-4F85-B2D4-7FF05696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FF67C-49F2-415B-A662-AFF680EA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6EB3F-6813-4C3E-A03B-4D2E6D33A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54289-1032-42F8-826B-F8DB9FE2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8ADDF-2C51-4B65-83C5-3C2C5DCCA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6BA1D-4E01-4ADC-BFCA-E2F5BFC5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461296-7216-41BD-A9A4-C3E1A0F2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B57B94-1982-4060-AEDE-7E0AE063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30D246-50A9-47A0-A4F1-D74220AF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7AC6-A086-4397-9F9F-D1ABC81B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BD5EC-0CB4-4A8A-B54C-31F6DF5B3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66AF-EB74-4258-B99F-FB9DDA3C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B03-5829-40DC-8A03-76D21F44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29BF-6D6D-40A8-8E0B-F5CAAFB3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43920" y="-12600"/>
            <a:ext cx="1012680" cy="6883200"/>
            <a:chOff x="8143920" y="-12600"/>
            <a:chExt cx="1012680" cy="68832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43920" y="-12600"/>
              <a:ext cx="10126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B4AC-FB34-4908-8A5D-6640579A796D}" type="slidenum">
              <a:rPr b="0" lang="en-SG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57520" y="-12600"/>
            <a:ext cx="6499080" cy="6883200"/>
            <a:chOff x="2657520" y="-12600"/>
            <a:chExt cx="6499080" cy="68832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57520" y="-12600"/>
              <a:ext cx="64990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11598-7532-4F64-A6AE-C164B4F51701}" type="slidenum">
              <a:rPr b="0" lang="en-SG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43920" y="-12600"/>
            <a:ext cx="1012680" cy="6883200"/>
            <a:chOff x="8143920" y="-12600"/>
            <a:chExt cx="1012680" cy="68832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43920" y="-12600"/>
              <a:ext cx="10126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D36F8-EB27-4AB9-95B4-E57C9355551A}" type="slidenum">
              <a:rPr b="0" lang="en-SG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063B-D223-4BEC-8002-B42B132E27C6}" type="slidenum">
              <a:rPr b="0" lang="en-SG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43920" y="-12600"/>
            <a:ext cx="1012680" cy="6883200"/>
            <a:chOff x="8143920" y="-12600"/>
            <a:chExt cx="1012680" cy="68832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43920" y="-12600"/>
              <a:ext cx="10126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4FF37-61AB-4115-AA7D-3F9A63C5283B}" type="slidenum">
              <a:rPr b="0" lang="en-SG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2680" y="523800"/>
            <a:ext cx="5407200" cy="32194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432400" cy="310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im Jun Weng (06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aniel Lye(10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Ng Yau Xuan(13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Keith Ong(14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eremy Yap(24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two different parent and child relationship are much in contra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chooses to respect her father’s wishes possibly at the expense of her lifelong happin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chooses to go against her father for her lo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sanio and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renzo and Jess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atiano and Neriss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31840" y="285840"/>
            <a:ext cx="7480080" cy="1189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sanio tried not to give away the ring until Antonio told him to do so –loyalty to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defended Bassanio’s best friend Antonio although it was dangerous to go as a woman –Self-sacrifice for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also showed her love towards Bassanio by promising him what she owns is now also what he owns (self-sacrific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od sir, this ring was given me by my wif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d when she put it on she made me vow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at I should neither sell, nor give, nor lose it.” –Bassanio on the 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yself, and what is mine, to you and yours/Is now converted” – Portia towards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7478640" cy="1193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would rather steal from her father and leave with Lorenzo for love than stay on in her ho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 I am much ashamed of my exchang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ut love is blind, and lovers cannot se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pretty follies that themselves commit;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ss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atiano is sorry for giving away her r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mises to keep it forev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 the only one to make love with 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ll, while I live I’ll fear no other th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 sore, as keeping safe Nerissa’s ring.” – Gratiano promising to Neriss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onio and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747864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onio, though knowing he has not enough money to help Bassanio, still promised him he would give money for him to woo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otonio was willing to go to his enemy to get money for Bassanio to woo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sanio was willing to sacrifice himself for the release of Antoni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Definition of Lov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ve, as portrayed in this play, is ideally selfl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involves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lf-sacrific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sharing, humility and devo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latonic love is also expressed in this play through the strong bonds between Bassanio and Antonio (spiritual lov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y purse, my person, my extremest means,/ Lie all unlocked to your occasions” –Anotonio promising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spat on me on Wednesday last…and for th[is] courters[y]/ I’ll lend you thus much money?” Shylock saying sarcastically towards Anto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Jew shall have my flesh, blood, bones, and all”-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2712960" y="2743200"/>
            <a:ext cx="37116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ent-chil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mant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riend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and her fat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and Shyloc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31840" y="285840"/>
            <a:ext cx="7480080" cy="1189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appears reluctant to obey her father’s legacy of the three caske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ever, she still does so (self-sacrifice) as she was only frustrated by the fact she cannot choose her own husba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s shows us the love and respect between Portia and her fat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may neither choose who I would nor refuse who I dislike, so is the will of a living daughter curbed by the will of a dead father.” – Portia on her father’s legac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s it not hard, Nerissa, that I cannot choose one nor refuse none?”</a:t>
            </a:r>
            <a:r>
              <a:rPr b="0" lang="en-SG" sz="2600" spc="-1" strike="noStrike">
                <a:solidFill>
                  <a:srgbClr val="000000"/>
                </a:solidFill>
                <a:latin typeface="Trebuchet MS"/>
              </a:rPr>
              <a:t>- Portia, in a dilemm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31840" y="285840"/>
            <a:ext cx="7480080" cy="118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hates her Jewish father for restricting her freed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love between them has strained though they are father and daugh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ylock loves his daughter and seems oblivious that she is drifting further and further away from 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ur house is hell” -Jessic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ack, what heinous sin is it in 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be ashamed to be my father’s child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ut though I am a daughter to his blood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am not to his manners.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ssica on her extreme dislike of her father’s ac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y sober house.” – Shylock, suggesting he has no tolerance for merriment himsel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my girl”, </a:t>
            </a:r>
            <a:r>
              <a:rPr b="0" lang="en-SG" sz="2600" spc="-1" strike="noStrike">
                <a:solidFill>
                  <a:srgbClr val="000000"/>
                </a:solidFill>
                <a:latin typeface="Trebuchet MS"/>
              </a:rPr>
              <a:t>-Shyloc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ar you me, Jessica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ck up my doors; and when you hear the dru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d the vile squealing of the wry-necked fif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…” 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rious restrictions on Jess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21:56:52Z</dcterms:created>
  <dc:creator>Keith</dc:creator>
  <dc:description/>
  <dc:language>en-US</dc:language>
  <cp:lastModifiedBy>ngsc</cp:lastModifiedBy>
  <dcterms:modified xsi:type="dcterms:W3CDTF">2009-09-21T18:28:39Z</dcterms:modified>
  <cp:revision>14</cp:revision>
  <dc:subject/>
  <dc:title>Love</dc:title>
</cp:coreProperties>
</file>