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BCB-661E-4092-AB82-8A213B21A48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FB0E-710D-476F-80CD-DFC368F3F03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E10-F76B-4C6E-9CAB-94342F24D24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91C5-BAF4-4F7D-BACA-EF03E661EB1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C2D-B692-44E2-B638-101CB4A00E3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4259-D69A-429D-AD66-4B0D7D3A08D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268-774A-4BD6-9778-ED4D5B1804C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1F3D-E5FE-4D7A-9C51-501C6BE1904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D5AD-929C-47B4-95F8-0E2D7060CAD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9332-60E3-4432-A631-5424D95D78A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211-EFB0-47F4-8846-B602B83EAA0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9B8-D03D-486F-836F-BDDF846C115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0588-F8B2-435B-A74A-D9ADF17CA3B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98B-ADEC-4BF4-832A-B0058955F08D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59E2-FF6C-4518-96B4-03379C40562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0C5C-CAAA-41CA-8CA5-D81CDC51D1B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6E2-34AA-4DA8-98AD-AEA85A9C984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98C-A586-4CF0-9B50-206562D3588C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9AC-03CE-4950-8B4B-B8765C8EDAA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5DAC-CBEE-4E23-90FF-80454B62B39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71D-3B16-4731-97BD-2788C77FAA5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A3E-16FD-43F8-BFDF-371978D0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112-2AAD-4960-9CE0-21DE4A89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0C2-4D9B-42F1-9120-3123CF32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ACB-26EC-4F75-9587-4A3B5CEC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3E89-A02C-4F61-B1B6-C6089134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2101-3CAD-4692-B0E9-3E9CB4A8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504E-4A57-485A-8874-29D18922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1981-E832-462D-9202-95E6B709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233-1775-4A3F-B235-48F058D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16C8-8944-4304-AE38-95F642D4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78B5-2428-462C-B74E-47D1A898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DAB-7333-4CFE-AAA7-EB3FA6B0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EAE3-2AE3-4311-8225-799EDFB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C979-3958-49B6-BFF3-CDD8DC12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7EC-E91B-47AE-9C1C-F769A3A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6905-F37F-402F-AA4B-71A3512D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F96-D8C7-4DF2-9146-3B945AA7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0A0E-3C5D-4BBD-A731-6E8D145C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6185-A8FC-45ED-9BE2-BAA040F4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AB0E-4B68-4DE9-808F-CD2254B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4823-736C-4AC4-88CE-C3329AFD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C25A-4F92-4F24-A8C3-0B8F6B5D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397-A088-4C36-B9AC-9D4C6A3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0A0A-5C3B-4846-8F1F-60F7826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AACA-64CC-47F3-AE25-B7E8F73C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0AB5-9A15-4BBE-BEBE-EC10464C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EB55F-3A04-48A8-AA4B-9F04917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A46B-6EC2-4F0F-BFF1-3A4C09C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C100-F3B4-4C21-AD7F-31B88912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0096-F541-4095-B4FF-71F5595C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A2D03-8613-49B7-9DC6-52CFC033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7EAC-114A-4A5E-82E2-E1CE68B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51C6-7941-4599-B886-F80942E6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AAA-80F3-42CB-9919-874FC82A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F7A3A-18A3-4D4C-A2C0-2A725B0A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484B-D165-4D5C-9E91-306921EB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9583-D5CA-457F-9B76-A8F527D4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2FF8-4491-49DE-9AF0-A74830B3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C545-96F8-4797-8A6E-0441BE6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CB62-3162-452E-912F-587099E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CE88-2747-490F-9CAF-D60C2E0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0599-6EF1-42AD-B4AB-53B08444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107C-6E52-4B91-AA4C-050C3D0B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C0FD-F7E0-4D17-A6FF-F50E267A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86A-FE14-4A8B-865B-DFCAC5B5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38C2C-328D-49EA-A061-6356EF6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6FEB-C9FA-43AD-AA71-F4EAA20A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DE63D-409F-46A3-999D-5D50B9D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EF64-DBEB-4E03-A965-0330521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7916-9D88-4EB5-B00D-98956E68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0E7F-272D-44E1-8D84-220D70ED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4C63-35B2-4D7C-8B08-A94B2A8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FB20-6BB4-4F88-836F-C6D5215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2EAC-7DE6-4284-9625-8565F2E7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7F39-302A-4C3C-A28A-10C3C9B8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55E-D508-4891-ACF9-D1CC4B6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1796-0D58-4722-B89C-7C5E21A7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631-F76F-4C7B-9AC8-436069A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07D-30C3-4E68-B39F-A712026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330-F6B3-4501-AE98-A5AFCFA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9FA-49BB-496D-A670-8066515C5F72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57520" y="-12600"/>
            <a:ext cx="6499080" cy="6883200"/>
            <a:chOff x="2657520" y="-12600"/>
            <a:chExt cx="6499080" cy="68832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57520" y="-12600"/>
              <a:ext cx="64990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590E-05CA-4AFB-A8D7-DEFAAF1F46D8}" type="slidenum">
              <a:rPr b="0" lang="en-SG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B12-0D1E-423E-91DE-2F4747917220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30B8-6D22-477D-835E-7A813CDA97EB}" type="slidenum">
              <a:rPr b="0" lang="en-SG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E03C-F470-4E78-AE42-24553AD5BF1A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2680" y="523800"/>
            <a:ext cx="5407200" cy="3219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432400" cy="31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im Jun Weng (06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aniel Lye(10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g Yau Xuan(13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eith Ong(14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remy Yap(24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wo different parent and child relationship are much in contra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chooses to respect her father’s wishes possibly at the expense of her lifelong happi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chooses to go against her father for her l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and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renzo and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and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tried not to give away the ring until Antonio told him to do so –loyalty t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defended Bassanio’s best friend Antonio although it was dangerous to go as a woman –Self-sacrifice for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lso showed her love towards Bassanio by promising him what she owns is now also what he owns (self-sacrific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od sir, this ring was given me by my w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when she put it on she made me v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at I should neither sell, nor give, nor lose it.” –Bassanio on the 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self, and what is mine, to you and yours/Is now converted” – Portia towards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747864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would rather steal from her father and leave with Lorenzo for love than stay on in her ho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I am much ashamed of my exchang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love is blind, and lovers cannot se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retty follies that themselves commit;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is sorry for giving away her r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mises to keep it forev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the only one to make love with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ll, while I live I’ll fear no other th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 sore, as keeping safe Nerissa’s ring.” – Gratiano promising to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 and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747864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, though knowing he has not enough money to help Bassanio, still promised him he would give money for him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otonio was willing to go to his enemy to get money for Bassanio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was willing to sacrifice himself for the release of Antoni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Definition of Lov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ve, as portrayed in this play, is ideally selfl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nvolves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lf-sacrific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sharing, humility and devo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tonic love is also expressed in this play through the strong bonds between Bassanio and Antonio (spiritual lov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purse, my person, my extremest means,/ Lie all unlocked to your occasions” –Anotonio promising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pat on me on Wednesday last…and for th[is] courters[y]/ I’ll lend you thus much money?” Shylock saying sarcastically towards Anto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Jew shall have my flesh, blood, bones, and all”-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2712960" y="2743200"/>
            <a:ext cx="3711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ent-chil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t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and 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ppears reluctant to obey her father’s legacy of the three cask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ever, she still does so (self-sacrifice) as she was only frustrated by the fact she cannot choose her own husb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shows us the love and respect between 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may neither choose who I would nor refuse who I dislike, so is the will of a living daughter curbed by the will of a dead father.” – Portia on her father’s lega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 it not hard, Nerissa, that I cannot choose one nor refuse none?”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 Portia, in a dilemm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hates her Jewish father for restricting her freed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love between them has strained though they are father and daugh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ylock loves his daughter and seems oblivious that she is drifting further and further away from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ur house is hell” -Jess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ack, what heinous sin is it in 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be ashamed to be my father’s chi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though I am a daughter to his blood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am not to his manners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 on her extreme dislike of her father’s a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sober house.” – Shylock, suggesting he has no tolerance for merriment hims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my girl”, 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ar you me, Jessica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k up my doors; and when you hear the dru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the vile squealing of the wry-necked f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”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ous restrictions on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1:56:52Z</dcterms:created>
  <dc:creator>Keith</dc:creator>
  <dc:description/>
  <dc:language>en-US</dc:language>
  <cp:lastModifiedBy>ngsc</cp:lastModifiedBy>
  <dcterms:modified xsi:type="dcterms:W3CDTF">2009-09-21T18:28:39Z</dcterms:modified>
  <cp:revision>14</cp:revision>
  <dc:subject/>
  <dc:title>Love</dc:title>
</cp:coreProperties>
</file>