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0C33-E79D-4494-9568-45B47EB53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F13A-9D10-4A07-9B59-860A44BE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87E9-6D79-4A55-8D46-08DAAC8C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7602-1310-4C41-BF6C-361BB037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2D45-918C-4F26-83C4-06FAB079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67FC-C364-4736-840D-8A977FD9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E302-B827-403A-8DBB-1AE6FD0B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B0BC0-47A9-4C83-8397-68B192D9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01F4-3A8D-4C23-B3E5-11E01E7F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B5EC0-1D48-45C2-A6CC-240DBC7E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D252-6D63-461C-957B-785D5D4AB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72A-CDDF-443B-898B-197AE47C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9FC47-6362-4EE6-9439-5ED69A4A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69E6-1765-4D0F-B188-1F9F9B75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F62C3-629E-4DA3-9C12-9D88325D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4781-1BAB-405A-BD52-E0DDB03E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5BE30-8748-4604-A1DA-058849852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4D054-63D2-4D06-B266-CA2F4272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5B4A40-BF3E-414D-B756-0A71A900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5F96D-159C-4226-8E83-FC1DF074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9E574-D219-453E-85E6-B5F228FC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BE80E0-36D6-4D7B-B030-B425CD955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CEC9-ED74-4AF9-9586-55FD3A7C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0A5BE-4AA2-46AC-A3CB-24C7AE03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70695C-14C5-4D42-9433-D913EC01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0C81E4-CDB2-4BE8-A74A-D69215D7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C2E59D-9BDC-47B4-91C8-5B0D2F94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0E703-C69B-4175-9A39-9AD9AF86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83EFA-7675-45ED-A6B2-A99BAF41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452B1D-C640-4EEA-B6D9-CC4C208B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C7B09-F34C-4FBD-8449-B4F7BC49C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0476-CF52-4C0A-9302-8871BFEE1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79B40-DF4E-4015-A11D-243EADD1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3E85-970C-4F14-9E88-910150A74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B7896-6B61-4492-919B-BE939B83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82F06-F85F-4997-A816-DF26B53E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2C5CB-4A1D-4CD1-AC0A-7CF2F0EF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2579E-85D0-4F5F-A733-69476CF7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44CD8-9F62-4937-8AF3-4240CFA52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4BFFC-D3CF-4DEA-9EB2-2DFCFAEB5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22C96-0BE3-4B48-A48A-5217C4A8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989E-E501-47AB-8C00-78E070A0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DBF2C-E015-4DD0-9981-AC66802F5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C218-320E-4CC5-B655-4356B8C8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3DED-8BD2-4FCB-A1C5-AFB6D2423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FA1-C250-4366-8A1C-81C129BC8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6BD4-05DC-4818-97BB-0100B28E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DA9C-452F-4A75-AB3F-0F34A79E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12FFF-2B06-43FA-8935-0C497635BF45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9A7D-7E76-4761-8112-3234DA169105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4CD9-C2D1-4709-917B-4947CC06CCA2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7F11F-AE9D-42C2-B89F-7AD70F962D75}" type="slidenum">
              <a:rPr b="0" lang="en-GB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The Merchant of Venic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Lorenzo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495288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Georgia"/>
              </a:rPr>
              <a:t>Done By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Daniel Koh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Liew Shan Ya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Andre Li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Loh Sheng Hng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336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24456"/>
                </a:solidFill>
                <a:latin typeface="Georgia"/>
              </a:rPr>
              <a:t>Tan Jiahao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Contents Pag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eorgia"/>
              </a:rPr>
              <a:t>Lorenzo is: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Romantic / Poetic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Witty / Ironic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Sensitive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38086"/>
                </a:solidFill>
                <a:latin typeface="Georgia"/>
              </a:rPr>
              <a:t>Trustworthy</a:t>
            </a:r>
            <a:endParaRPr b="0" lang="en-US" sz="28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The moon shines bright. In such a night……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- Act 5 Scene 1, Lines 1-2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is shows that Lorenzo is a romantic and poetic person; he is conversing with Jessica by taking turns to tell stories, role-playing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743040" indent="-2858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he descriptions in the stories are also vivid, showing the poetic side of Lorenzo (although this might be because the play demanded it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4768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Beshrew me, but I love her heartily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For she is wise, if I can judge of her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fair she is, if that mine eyes be true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true she is, as she hath prov'd herself;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And therefore, like herself, wise, fair, and true,</a:t>
            </a:r>
            <a:br>
              <a:rPr sz="2800"/>
            </a:b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Shall she be placed in my constant soul.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SG" sz="2800" spc="-1" strike="noStrike">
                <a:solidFill>
                  <a:srgbClr val="000000"/>
                </a:solidFill>
                <a:latin typeface="Georgia"/>
              </a:rPr>
              <a:t>- Act 2, Scene 6, Lines 52 to 5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7560" indent="-23868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2600" spc="-1" strike="noStrike">
                <a:solidFill>
                  <a:srgbClr val="438086"/>
                </a:solidFill>
                <a:latin typeface="Georgia"/>
              </a:rPr>
              <a:t>Lorenzo truly loves Jessica, and does not discriminate her as a Jew, as his love for her is due to Jessica being “wise, fair, and true”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Romantic / Poet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10560" indent="-5065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sweet the moonlight sleeps upon this bank! Here will we sit and let the sounds of music Creep in our ears; soft stillness and the night Become the touches of sweet harmony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10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- Act 5 Scene 1, Lines 54-5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861120" indent="-4705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his shows the romantic side of Lorenzo; he is sitting with Jessica beside (presumably) a body of water, illuminated by the white glow of the moon, while listening to music – a romantic atmosphere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6105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Witty / Ironi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 shall grow jealous of you shortly, Launcelot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f you thus get my wife into corners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-Act 3 Scene 5 Lines 26 – 27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e was joking to Launcelot, after seeing him talk to Jessica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Sensitiv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Well, we will leave you then till dinner-time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I must be one of these same dumb wise men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For Gratiano never lets me speak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GB" sz="2800" spc="-1" strike="noStrike">
                <a:solidFill>
                  <a:srgbClr val="000000"/>
                </a:solidFill>
                <a:latin typeface="Georgia"/>
              </a:rPr>
              <a:t>- Act One, Scene 1, Lines 105 -10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Lorenzo was sensitive as knew that Gratiano might have accidentally insulted Anton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438086"/>
                </a:solidFill>
                <a:latin typeface="Georgia"/>
              </a:rPr>
              <a:t>Tries to shield Gratiano in showing that the “dumb wise man” that Gratiano was referring to was himself and not Antonio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424456"/>
                </a:solidFill>
                <a:latin typeface="Trebuchet MS"/>
              </a:rPr>
              <a:t>Trustworth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orenzo, I commit into your hand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husbandry and manage of my house”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Georgia"/>
              </a:rPr>
              <a:t>-Act 3 Scene 4 Lines 24 – 2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Portia trusted her vast estate to Lorenzo, showing that Lorenzo is trustworthy enough to have Portia placed her trust in hi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rebuchet MS"/>
              </a:rPr>
              <a:t>The Merchant of Venice</a:t>
            </a:r>
            <a:br>
              <a:rPr sz="4400"/>
            </a:br>
            <a:r>
              <a:rPr b="0" lang="en-GB" sz="4400" spc="-1" strike="noStrike">
                <a:solidFill>
                  <a:srgbClr val="ffffff"/>
                </a:solidFill>
                <a:latin typeface="Trebuchet MS"/>
              </a:rPr>
              <a:t>Appearance VS Reality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3900240"/>
            <a:ext cx="4952880" cy="26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4456"/>
                </a:solidFill>
                <a:latin typeface="Georgia"/>
              </a:rPr>
              <a:t>Thank you for your kind attention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3:39:22Z</dcterms:created>
  <dc:creator>Keith Loh Sheng Hng</dc:creator>
  <dc:description/>
  <dc:language>en-US</dc:language>
  <cp:lastModifiedBy>Keith Loh Sheng Hng</cp:lastModifiedBy>
  <dcterms:modified xsi:type="dcterms:W3CDTF">2009-09-14T17:01:35Z</dcterms:modified>
  <cp:revision>15</cp:revision>
  <dc:subject/>
  <dc:title>The Merchant of Venice Lorenzo</dc:title>
</cp:coreProperties>
</file>