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C5B-9AF3-4CBB-9463-2AE1F1A1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507-83CA-4BE7-84F5-399B1AA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F6C-2276-4BC4-8797-CC036A4E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753-98C3-410E-806E-47742321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ADD5-4758-4F11-978B-8C465F3D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F82-6464-44AB-9F4F-BB5639C9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A62-D366-41FB-9805-7567B9B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963-995E-4519-92B3-D720EE05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F7F3-6AA8-4AB9-BD36-05AABAA8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521E-B28D-4704-84B7-B7390A4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F1E-5C5D-401D-A75B-2F8AFDB5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E39-CF76-4D77-8984-0838D14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3B80-46CC-425B-A1CF-7F4C53F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C08B-53FB-49E3-B300-3F05A26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7FD0-AED0-408E-9337-A70E55DB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EBB4-3B56-4A81-AFC9-367AF67A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EE57-88CB-44B4-BCB1-AB4FE52F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AC7EB-6162-4D5B-9ED2-A086AEF4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35692-A4E5-40E9-8691-D4511EE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71291-5596-47AD-BF4F-2EC9A7D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7E9AB-5DB0-410A-BDCE-D0F4F56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ABCC0-72B7-437A-B34C-AAF24AA0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DA3-53FD-460D-98EB-18EB90F9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4B40C-34F3-40FA-AB7F-C565AB3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BD48F-6D4F-4BB6-B3AA-BE5F3F5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0B83D-28D1-47C7-B1E6-6EEC576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D6B1-4503-44D8-AA14-714D1B1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73090-6E6B-48BF-8659-8D0B97A9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76006-482A-4EFB-B021-C2CA7392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0B699-95BA-4F27-956D-BCE02B22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9984-5001-4DDA-B9F9-341D72D0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FEAB-F81C-4594-ABDD-CAE115C2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4197-A9ED-4BCB-AA54-ADFCC15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BBA-B547-4590-9C3A-83482F32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972E-6226-4EE8-89D9-3E2A9518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4C5D-CADF-47D0-9E5C-EC1C5810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D239-75E9-4310-BE8D-6CD3D1F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389A-EA5F-4DD4-90E1-FD04C62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2CCE-77B4-4E4B-8ED7-B3CB0D0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A34C-BE2D-4075-ACD3-1A5DADD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2A04-8276-42C0-9AC5-66FAD3B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2E5F-5B6E-463C-AD3C-363A9275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D1FB-4B61-420F-8FDD-DF5ECCA8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6BC-1D53-4E49-B9D9-EFD9DF8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EDC-C357-4BD0-B291-98D4675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B3C-55DD-4B68-ACFF-1CC3601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3FE-9962-4DA8-8EE8-B0C0CCD4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12E-9609-4EDF-8E14-37B84E91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632E-0756-4595-8B20-08B73E3F04B1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E82-358D-49C0-ADBF-9F157F604BB7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6704-A3E7-4985-AB62-E41B29CFD568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B1F3-A1B5-4050-805B-ABD886260251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Lorenzo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Done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Daniel Ko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iew Shan Y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Andre L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oh Sheng H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Tan Jiah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 P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Lorenzo i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Romantic / Poet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Witty / Iron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Sensitiv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Trustworth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oon shines bright. In such a night……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- Act 5 Scene 1, Lines 1-2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is shows that Lorenzo is a romantic and poetic person; he is conversing with Jessica by taking turns to tell stories, role-play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descriptions in the stories are also vivid, showing the poetic side of Lorenzo (although this might be because the play demanded i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Beshrew me, but I love her heartily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For she is wise, if I can judge of her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fair she is, if that mine eyes be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rue she is, as she hath prov'd herself;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herefore, like herself, wise, fair, and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Shall she be placed in my constant soul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SG" sz="2800" spc="-1" strike="noStrike">
                <a:solidFill>
                  <a:srgbClr val="000000"/>
                </a:solidFill>
                <a:latin typeface="Georgia"/>
              </a:rPr>
              <a:t>- Act 2, Scene 6, Lines 52 to 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438086"/>
                </a:solidFill>
                <a:latin typeface="Georgia"/>
              </a:rPr>
              <a:t>Lorenzo truly loves Jessica, and does not discriminate her as a Jew, as his love for her is due to Jessica being “wise, fair, and true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0560" indent="-506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weet the moonlight sleeps upon this bank! Here will we sit and let the sounds of music Creep in our ears; soft stillness and the night Become the touches of sweet harmony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Act 5 Scene 1, Lines 54-5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1120" indent="-4705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shows the romantic side of Lorenzo; he is sitting with Jessica beside (presumably) a body of water, illuminated by the white glow of the moon, while listening to music – a romantic atmospher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Witty / Iron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shall grow jealous of you shortly, Launcelot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thus get my wife into corner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5 Lines 26 –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 was joking to Launcelot, after seeing him talk to Jessic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ensi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ll, we will leave you then till dinner-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must be one of these same dumb wise 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Gratiano never lets me speak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- Act One, Scene 1, Lines 105 -1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Lorenzo was sensitive as knew that Gratiano might have accidentally insulted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ries to shield Gratiano in showing that the “dumb wise man” that Gratiano was referring to was himself and not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rustwort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renzo, I commit into your ha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husbandry and manage of my hous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4 Lines 24 – 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rtia trusted her vast estate to Lorenzo, showing that Lorenzo is trustworthy enough to have Portia placed her trust in hi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Appearance VS Real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Thank you for your kind atten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39:22Z</dcterms:created>
  <dc:creator>Keith Loh Sheng Hng</dc:creator>
  <dc:description/>
  <dc:language>en-US</dc:language>
  <cp:lastModifiedBy>Keith Loh Sheng Hng</cp:lastModifiedBy>
  <dcterms:modified xsi:type="dcterms:W3CDTF">2009-09-14T17:01:35Z</dcterms:modified>
  <cp:revision>15</cp:revision>
  <dc:subject/>
  <dc:title>The Merchant of Venice Lorenzo</dc:title>
</cp:coreProperties>
</file>