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469-73B8-42E9-B402-BE73FBEE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073-438C-4AD0-9DC7-C836D3AF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87A-125A-4438-95DB-39338564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73C-666B-4B08-9010-E0BC950A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9FA8-C79E-48A3-A124-492376AA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DCF9-B7AF-4FE2-9412-D1F7FA74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52C7-C3A3-447A-90E6-9E0CB0E4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8C98-C3CD-4212-B477-091D3476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BB5F-3669-4FAD-8B8D-726AE14C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155C-1C72-4D6F-A96E-D0B01550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376B-0E19-4EA1-B14D-36B630B0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6F1-1BE0-449A-B051-C33979BD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C2E0-E505-43C5-87B0-3E4FEFEB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8C42-FA01-4C65-A730-B4063E8F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08DE-E797-4644-B94B-6EBF6A2E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6283-B8B2-46DF-BDAC-198619C5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2621-DD36-4A94-A7CA-E01EC806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A5C68-3605-445B-A3DF-DF566C82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26893-4995-4D65-8B00-AC9192D3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585BC-D57B-48DB-972A-25849387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5ED67-1A30-412F-A331-1058F905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0D212-DF36-4C51-8B2D-3B451EDF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62D-D45E-42F7-A5DC-132C4A90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6B467-64A1-44EB-AB32-7F362637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EB5EE-667B-473C-A5B0-3823D3C8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28DF2-095D-4755-9A0B-46AFDD54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E1A7B-2CAB-4EC0-AD2A-F985D90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F83F0-4998-4FFC-97F9-24B205D1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B94BF-3031-4414-9CF2-6421499A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63C1A-514C-452E-B33A-3D06AD62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C86C7-933D-4673-BF9B-A9AB7BDB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654DB-9E04-4100-AB1C-0AB75377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DABC8-6CFD-479C-88FF-4B020D47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B08-7539-4AE1-B9CB-AF022F35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9A644-3C9D-453A-A6A4-6BFCD2EB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F4C9B-EB11-4FE2-866C-53B6EAD4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E920-E066-4CFB-AD15-75941C93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FA55C-C1B5-437D-B412-E86FB92F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47FE-33C3-4967-BC7D-0E3A8724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D2E41-9F1F-43DC-976D-30616C7D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D012B-2E37-4EEB-88A9-4F0039D7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7DF0F-3167-4353-9AA1-16005CA2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72DE-C3FE-4C9E-A5BD-AFDB2476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241-A951-48B6-BA36-59A98169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2D2-5D85-472C-A6BD-EF8E69DA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0B9-7416-4695-9D3C-689C1A67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7A5-704C-420C-898E-77B8DC9B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AAD-7EBA-4CFE-B5E2-45C6A6C6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9583-D562-46EA-97CF-28AE72CDDF36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F847-2C9F-427C-B609-E4DD4FB880E7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F52E-F4F9-4719-9A80-40184EDDF596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D6FA-FF05-45CF-A615-A1284F7D43BF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The Merchant of Venic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Lorenzo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495288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Georgia"/>
              </a:rPr>
              <a:t>Done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Daniel Ko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Liew Shan Ya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Andre Li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Loh Sheng H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Tan Jiaha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Contents Pag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Lorenzo i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Romantic / Poetic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Witty / Ironic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Sensitive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Trustworthy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Romantic / Poet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moon shines bright. In such a night……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- Act 5 Scene 1, Lines 1-2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is shows that Lorenzo is a romantic and poetic person; he is conversing with Jessica by taking turns to tell stories, role-play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e descriptions in the stories are also vivid, showing the poetic side of Lorenzo (although this might be because the play demanded it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Romantic / Poet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Beshrew me, but I love her heartily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For she is wise, if I can judge of her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And fair she is, if that mine eyes be true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And true she is, as she hath prov'd herself;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And therefore, like herself, wise, fair, and true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Shall she be placed in my constant soul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SG" sz="2800" spc="-1" strike="noStrike">
                <a:solidFill>
                  <a:srgbClr val="000000"/>
                </a:solidFill>
                <a:latin typeface="Georgia"/>
              </a:rPr>
              <a:t>- Act 2, Scene 6, Lines 52 to 5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438086"/>
                </a:solidFill>
                <a:latin typeface="Georgia"/>
              </a:rPr>
              <a:t>Lorenzo truly loves Jessica, and does not discriminate her as a Jew, as his love for her is due to Jessica being “wise, fair, and true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Romantic / Poet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0560" indent="-506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sweet the moonlight sleeps upon this bank! Here will we sit and let the sounds of music Creep in our ears; soft stillness and the night Become the touches of sweet harmony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10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Act 5 Scene 1, Lines 54-57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61120" indent="-4705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is shows the romantic side of Lorenzo; he is sitting with Jessica beside (presumably) a body of water, illuminated by the white glow of the moon, while listening to music – a romantic atmosphere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610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Witty / Iron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shall grow jealous of you shortly, Launcelot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thus get my wife into corners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-Act 3 Scene 5 Lines 26 – 27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 was joking to Launcelot, after seeing him talk to Jessica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Sensitiv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ell, we will leave you then till dinner-tim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 must be one of these same dumb wise men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or Gratiano never lets me speak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- Act One, Scene 1, Lines 105 -10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Lorenzo was sensitive as knew that Gratiano might have accidentally insulted Antoni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ries to shield Gratiano in showing that the “dumb wise man” that Gratiano was referring to was himself and not Antoni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Trustwort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renzo, I commit into your ha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husbandry and manage of my hous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-Act 3 Scene 4 Lines 24 – 2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rtia trusted her vast estate to Lorenzo, showing that Lorenzo is trustworthy enough to have Portia placed her trust in hi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The Merchant of Venic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Appearance VS Reality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495288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Georgia"/>
              </a:rPr>
              <a:t>Thank you for your kind atten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3:39:22Z</dcterms:created>
  <dc:creator>Keith Loh Sheng Hng</dc:creator>
  <dc:description/>
  <dc:language>en-US</dc:language>
  <cp:lastModifiedBy>Keith Loh Sheng Hng</cp:lastModifiedBy>
  <dcterms:modified xsi:type="dcterms:W3CDTF">2009-09-14T17:01:35Z</dcterms:modified>
  <cp:revision>15</cp:revision>
  <dc:subject/>
  <dc:title>The Merchant of Venice Lorenzo</dc:title>
</cp:coreProperties>
</file>