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F87-2913-4A3B-901A-E9FAB93D6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EFE6-A862-4342-8467-7690A12A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7C5-D71E-4414-884C-B690FEB57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915D-4875-44C4-A12D-14ACC14A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147C-1234-4C82-A45C-DA955C08A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C9F3-3744-47AD-86AE-57DE8FE3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C464-A340-4620-A758-7E61D00C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F0BD-448C-48FF-892E-AFD77B72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DC6B7-7148-4E1E-A831-5805036C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72A3A-C2F1-4161-9044-407FE534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A8AC-9466-40CE-B076-57C47E5A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09ED-E9D4-43EC-A054-6A83E67DC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B7414-683F-4CDA-A62C-565CFC339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2C8C-F2E6-4E73-B1A0-4E0390901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9D8F-B517-42C5-B8C6-9D1D65D5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7ECA-A3E0-4A87-BC75-F4AB37E5E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EE46-B298-42C8-9191-541FC9D81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285CB3-F793-40D2-9FC1-A2C3A0C6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A21A9B-28CB-4507-862C-F6CF2F1B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F73F27-97EA-45FE-A29A-5DFF56397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CDD783-D632-4F14-8478-A562B562F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C31A0A-15E8-4A43-AE1E-BF1B52F4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35A2-A30C-4C79-99FB-86ED6728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73787C-74EE-4BE1-9047-27A4E091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AF32D3-5E7F-4CE1-A3A1-065AB85C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F8935B-FA3E-4A76-95B9-DD75B7A03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8FB1D-18CB-461A-90AB-AC8DE884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28532E-5029-49BC-A724-8C8092BC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CCDAFC-84F4-49F3-9B0B-CFD602C62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E01293-DE78-46F9-B39F-9A83CC981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2CD87-7A9A-4EB7-9F5B-58FB5FA30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9E9BAC-D7F4-4178-8EF0-9FEFCE3E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7F708-383E-4432-AC66-F8F539BF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6420-CB42-4E45-9EEB-4BAB2F2AE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932F6-F35B-44BE-AD14-5C5F61958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827C8-6B86-4F52-A7C5-0737DD68D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DB69F-2526-40F5-9395-706C66C0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722E8-626C-47BB-B332-13F922C7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A4585-6C81-4111-A571-D5CC4D65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14304-E316-4263-8564-C486E6E6D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F06B9-40FA-4ED0-9189-7C03C60C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33262-A7AD-4E81-B6D9-2E1CC0A29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9E273-7219-41E7-B532-E61DAF8DF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AAF-9867-4BE6-A949-EC66CE68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FBE1-F39D-4ABB-BF40-E12660597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4335-637E-448E-BDD1-A5082492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BA79-8821-494B-BE21-7BC4D816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5F54-4EB4-4DA3-B1AA-CFDE82CF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934F-C364-496A-8266-2E6762577364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4389-B13E-4A14-92C9-213B82B25BD7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6907-7494-4FAB-9849-14D53D117FF7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6A3D-2CBE-40CE-98CF-C72719890728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The Merchant of Venic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Lorenzo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495288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Georgia"/>
              </a:rPr>
              <a:t>Done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Daniel Ko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Liew Shan Ya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Andre Li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Loh Sheng H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Tan Jiaha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Contents Pag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Lorenzo i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Romantic / Poetic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Witty / Ironic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Sensitive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Trustworthy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Romantic / Poet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moon shines bright. In such a night……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- Act 5 Scene 1, Lines 1-2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is shows that Lorenzo is a romantic and poetic person; he is conversing with Jessica by taking turns to tell stories, role-play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e descriptions in the stories are also vivid, showing the poetic side of Lorenzo (although this might be because the play demanded it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Romantic / Poet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Beshrew me, but I love her heartily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For she is wise, if I can judge of her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And fair she is, if that mine eyes be true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And true she is, as she hath prov'd herself;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And therefore, like herself, wise, fair, and true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Shall she be placed in my constant soul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SG" sz="2800" spc="-1" strike="noStrike">
                <a:solidFill>
                  <a:srgbClr val="000000"/>
                </a:solidFill>
                <a:latin typeface="Georgia"/>
              </a:rPr>
              <a:t>- Act 2, Scene 6, Lines 52 to 5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438086"/>
                </a:solidFill>
                <a:latin typeface="Georgia"/>
              </a:rPr>
              <a:t>Lorenzo truly loves Jessica, and does not discriminate her as a Jew, as his love for her is due to Jessica being “wise, fair, and true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Romantic / Poet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0560" indent="-506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sweet the moonlight sleeps upon this bank! Here will we sit and let the sounds of music Creep in our ears; soft stillness and the night Become the touches of sweet harmony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10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Act 5 Scene 1, Lines 54-57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61120" indent="-4705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is shows the romantic side of Lorenzo; he is sitting with Jessica beside (presumably) a body of water, illuminated by the white glow of the moon, while listening to music – a romantic atmosphere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610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Witty / Iron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shall grow jealous of you shortly, Launcelot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thus get my wife into corners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-Act 3 Scene 5 Lines 26 – 27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 was joking to Launcelot, after seeing him talk to Jessica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Sensitiv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ell, we will leave you then till dinner-tim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 must be one of these same dumb wise men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or Gratiano never lets me speak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- Act One, Scene 1, Lines 105 -10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Lorenzo was sensitive as knew that Gratiano might have accidentally insulted Antoni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ries to shield Gratiano in showing that the “dumb wise man” that Gratiano was referring to was himself and not Antoni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Trustwort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renzo, I commit into your ha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husbandry and manage of my hous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-Act 3 Scene 4 Lines 24 – 2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rtia trusted her vast estate to Lorenzo, showing that Lorenzo is trustworthy enough to have Portia placed her trust in hi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The Merchant of Venic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Appearance VS Reality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495288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Georgia"/>
              </a:rPr>
              <a:t>Thank you for your kind atten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3:39:22Z</dcterms:created>
  <dc:creator>Keith Loh Sheng Hng</dc:creator>
  <dc:description/>
  <dc:language>en-US</dc:language>
  <cp:lastModifiedBy>Keith Loh Sheng Hng</cp:lastModifiedBy>
  <dcterms:modified xsi:type="dcterms:W3CDTF">2009-09-14T17:01:35Z</dcterms:modified>
  <cp:revision>15</cp:revision>
  <dc:subject/>
  <dc:title>The Merchant of Venice Lorenzo</dc:title>
</cp:coreProperties>
</file>