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C284-6B1D-4B9B-AFB0-494C93B9DA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afternoon Ms. Huang and fellow classmates. Today we will be presenting on the theme of justice and mercy in the Merchant of Veni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difference is that justice is rigid, while mercy is compassionate and forgiving. Gratiano and Bassanio in the trial scene both plead for the law to be bent slightly “to do a great right” by “doing a little wrong” to release Antonio from his f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 however, is adamant: The law cannot be changed and it is strict and inflexible. Any bending of the law will create a precedent for others later. Antonio, in asking to “let me have judgement, and the Jew his will”, also visible realises this fact, for example rejecting Solanio’s comfort in Act 3, Scene 3 that the Duke could bend the law slightly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rcy, on the other hand, presents an extremely stark contrast. As highlighted in Portia’s speech, mercy is compassionate, another way for phrasing “not strained”, and does not treat us according to what we deserve. The duke too also shows this compassion by pardoning Shylock despite his words earlier “How shalt thou hope for mercy, rendering 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mportant difference is associations of both justice and mercy. Justice is formulated and dispensed by men, and Portia’s quote (point to first quote) shows how kings use the law and justice to instil fear. Mercy, however, is divine: man’s “godlike” qualities are manifested when he shows mercy to his fellow brethren. Here, there is once more a contrast between the strict laws in the OT and the mercy taught in the NT. The comparison here can even be extended further to Jews, represented in this case by Shylock, and Christians, done in relation to the parts of Scripture which they ac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ast difference is quite apparent: Justice is basically one sided, since it condemning others indicates that there is a winner and a loser, while mercy, as shown by Portia’s speech “It is twice blest;/ It blesseth him that gives and him than takes.”, is reciprocal and mutually beneficial. A quote said earlier by Portia that “The brain may devise/ laws for the blood, But a hot temper leaps over a cold/ decree”  is also very significant, in a way symbolising how mercy, which is represented by the passions and feelings or the blood in the end will usually prevail of a strict law, ultimately leading to the conclusion that justice should be seasoned with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focussed on the differences of justice and mercy, so let’s go on to the similarities. But before that, let’s trace what happens in the trial scene.  By urging justice (dispensed strictly and by power and retribution) and following the law strictly to the letter, Shylock ultimately sets the ground for Portia’s rebuttal. Finding a loophole in the “pound of flesh”, she prevents Shylock from taking the bond. A further deadly law of Venice threatens to strip Shylock of everything on the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shown by both the Duke and Antonio reduce Shylock’s penalty. Shylock is defeated and walks out of the court, and he has paid for his lack of mercy and ruthlessness. All ends happily... Or does it? Is justice “seasoned with mercy” really served to Shy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e now come to the similarity: both justice and mercy are relative. </a:t>
            </a:r>
            <a:r>
              <a:rPr b="0" lang="en-GB" sz="1400" spc="-1" strike="noStrike">
                <a:solidFill>
                  <a:srgbClr val="000000"/>
                </a:solidFill>
                <a:latin typeface="Arial"/>
              </a:rPr>
              <a:t>Portia has preached mercy, but in what she says l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or, as thou urgest justice, be assured/ Thou shalt have justice more than thou desir’st”, she doesn’t seem to follow what she says. Even if she does urge and enforce strict justice, is impartial justice serv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o the deadly law which Portia used to condemn Shylock. Take some time to read it and refresh your memory. (Pause for a few secon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ylock, in the eyes of this law, is perceived as an “alien” , unlike Antonio, who is classified as a “citizen”. The strict law, discriminating against non-citizens, enforced that: All goods would be seized by the state. The person responsible would also most probably die, showing this law to be strict justice in its purest form. Portia’s rebuttal is also legally unacceptable: blood and flesh are counted as one in the law as they are inseparable. At the end, we can almost hear Shylock’s cry: “Is this justice?”. In a way, this is justice, justice in the definition “</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too is also relative. Let’s now look at Antonio’s “mercy” and its conditions (pause for a whi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what Antonio really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1: Shylock becomes Christian. This effectively strips him of his religion, profession (since it is unlikely that as a Christian, he will be still be a moneylender,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2: Shylock gives money to his “son”, Lorenzo, on his death. This strips him of his pride as he is forced to acknowledge Lorenzo, the Christian who stole his daughter and money, as hi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3: Shylock entrusts money to his enemy and “owes a favour to him” This, most obviously, strips him of part of his money, but more importantly strips him of his pride. Imagine the fact that he owed a favour to his most hated en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onio’s eyes, this is compassion and mercy, calling it a “favour”, but in Shylock’s eyes, is this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acteristics of justice and mercy are summarised in this table, and the conclusion that one can come to is that ultimately, justice should be seasoned with mercy, and ruthless, inflexible justice based on power and retribution is not favourable in any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look at the definition or definitions in fact of justice: (Use Firstly, etc., emphasising on the words in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nd fair (legally?) behaviour of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uided by </a:t>
            </a:r>
            <a:r>
              <a:rPr b="0" i="1" lang="en-US" sz="1200" spc="-1" strike="noStrike">
                <a:solidFill>
                  <a:srgbClr val="000000"/>
                </a:solidFill>
                <a:latin typeface="Arial"/>
              </a:rPr>
              <a:t>truth, reason, justice, and fairn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aintenance or administration of what is just especially by the </a:t>
            </a:r>
            <a:r>
              <a:rPr b="1" i="1" lang="en-US" sz="1200" spc="-1" strike="noStrike" u="sng">
                <a:solidFill>
                  <a:srgbClr val="000000"/>
                </a:solidFill>
                <a:uFillTx/>
                <a:latin typeface="Arial"/>
              </a:rPr>
              <a:t>impartial</a:t>
            </a:r>
            <a:r>
              <a:rPr b="0" i="1" lang="en-US" sz="1200" spc="-1" strike="noStrike">
                <a:solidFill>
                  <a:srgbClr val="000000"/>
                </a:solidFill>
                <a:latin typeface="Arial"/>
              </a:rPr>
              <a:t> </a:t>
            </a:r>
            <a:r>
              <a:rPr b="0" lang="en-US" sz="1200" spc="-1" strike="noStrike">
                <a:solidFill>
                  <a:srgbClr val="000000"/>
                </a:solidFill>
                <a:latin typeface="Arial"/>
              </a:rPr>
              <a:t>adjustment of </a:t>
            </a:r>
            <a:r>
              <a:rPr b="1" i="1" lang="en-US" sz="1200" spc="-1" strike="noStrike" u="sng">
                <a:solidFill>
                  <a:srgbClr val="000000"/>
                </a:solidFill>
                <a:uFillTx/>
                <a:latin typeface="Arial"/>
              </a:rPr>
              <a:t>conflicting claims</a:t>
            </a:r>
            <a:r>
              <a:rPr b="0" lang="en-US" sz="1200" spc="-1" strike="noStrike">
                <a:solidFill>
                  <a:srgbClr val="000000"/>
                </a:solidFill>
                <a:latin typeface="Arial"/>
              </a:rPr>
              <a:t> or the assignment of </a:t>
            </a:r>
            <a:r>
              <a:rPr b="1" i="1" lang="en-US" sz="1200" spc="-1" strike="noStrike" u="sng">
                <a:solidFill>
                  <a:srgbClr val="000000"/>
                </a:solidFill>
                <a:uFillTx/>
                <a:latin typeface="Arial"/>
              </a:rPr>
              <a:t>merited rewards or punishments</a:t>
            </a:r>
            <a:r>
              <a:rPr b="0" lang="en-US" sz="1200" spc="-1" strike="noStrike">
                <a:solidFill>
                  <a:srgbClr val="000000"/>
                </a:solidFill>
                <a:latin typeface="Arial"/>
              </a:rPr>
              <a:t>” – Encyclopaedia Britan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is related closely to justice an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rules society develops to deal with crime, business agreements and soci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puts it as “A rule of conduct or action prescribed or formally recognized as </a:t>
            </a:r>
            <a:r>
              <a:rPr b="1" i="1" lang="en-US" sz="1200" spc="-1" strike="noStrike" u="sng">
                <a:solidFill>
                  <a:srgbClr val="000000"/>
                </a:solidFill>
                <a:uFillTx/>
                <a:latin typeface="Arial"/>
              </a:rPr>
              <a:t>binding or enforced</a:t>
            </a:r>
            <a:r>
              <a:rPr b="0" lang="en-US" sz="1200" spc="-1" strike="noStrike">
                <a:solidFill>
                  <a:srgbClr val="000000"/>
                </a:solidFill>
                <a:latin typeface="Arial"/>
              </a:rPr>
              <a:t> by a controlling authority” While the Oxford English Dictionary puts it as: “The whole system of rules that </a:t>
            </a:r>
            <a:r>
              <a:rPr b="1" i="1" lang="en-US" sz="1200" spc="-1" strike="noStrike" u="sng">
                <a:solidFill>
                  <a:srgbClr val="000000"/>
                </a:solidFill>
                <a:uFillTx/>
                <a:latin typeface="Arial"/>
              </a:rPr>
              <a:t>everybody in a country or society must obe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no need to read the quotes only) Shylock’s almost fanatical desire for justice is shown almost throughout the play. Using the Venetian law as a tool, Shylock presents himself as the representative of strict justice: one that is based on power and retrib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mercy is quite straightforward: the Choosing not to harm someone you have power over or the Forgiving someone you have the right to punis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se quotes here, Portia seems to be the representative of mercy, delivering a speech that extols this value as well as other Christian values (p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will go on to the differences between justice and mercy. Firstly, justice is condemning, while mercy is redeeming. By Portia’s words, it is easy to see that the law or the bond condemns Antonio to die but mercy would redeem him. The Duke (and later Antonio) later also both show mercy to Shylock, redeeming him despite of his d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s speech on mercy also underscores one important fact: </a:t>
            </a:r>
            <a:r>
              <a:rPr b="0" lang="en-GB" sz="1300" spc="-1" strike="noStrike">
                <a:solidFill>
                  <a:srgbClr val="000000"/>
                </a:solidFill>
                <a:latin typeface="Arial"/>
              </a:rPr>
              <a:t>Justice, if strictly followed, would condemn all humanity as well. Mercy, however, redeems us. There is also a stark contrast of New Testament teachings, which preach mercy and forgiving our enemies to the Old Testament’s “an eye for an eye, a tooth for a tooth”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0A1B7E-82DE-450D-B72F-BA883F7E3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3"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6387EF-0AA3-4B33-84D3-59D6927B7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49FB7C-F3F8-4D5B-8EFB-23A8A136F4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51"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71AA44-2A24-4F99-B462-AE0499E403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D1217-4359-4016-9A32-4B622CD71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7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0298B-FDDD-44A3-8E88-18506BFEF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1"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E1BF0-D9B4-4A20-B980-277211F65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3"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44DE3-53DC-4B6E-ADC9-65B73C444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FA302-BDBD-4077-A913-A4CD7E55F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851FE-37D3-49D6-B7D5-961D337F3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8"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4E371-E0F8-459B-BBDE-A259FC66E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59F2CC-4DC9-49BC-A70B-9A319672A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2"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57CFA-DF80-4EA3-9200-778571AA9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F70D-1CC2-405C-B17B-AD7F24296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0"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76024-4390-48A9-A27F-3F5E89FB5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3"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3B963-19FC-44C6-8D48-008BB1D62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8"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A2B1A-4DC9-44C6-A9E8-CD5A2817F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4"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DDBCD5-B65D-4377-9F68-65081D31A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6"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7E80FD-6620-4659-8ED7-055BE3CBE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E32752-81E8-4FDE-B586-0A7ABDEF2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6C1DEA-CF5B-47BA-B7DF-2853D2E70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1"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4CC6C2-A100-4F0D-A9F8-F2A05F8A1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5"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80CC39-92FE-46F2-A94F-A7828570A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9"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1C145A-2382-4DDD-9685-AD89AC0497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F3C1-5C47-41F7-95EF-86346143D1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5D8D-950E-4D11-9243-00E137948B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Justice &amp; Mercy</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3860280"/>
            <a:ext cx="5791320" cy="185436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enedict Tan (2)</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arren Low (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eo Mingjie (21)</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John Yap (2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Zach Lim (25)</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0"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O be thou damned, inexcreable dog,/ And for thy life let justice be accused!” (IV, i, 128-12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nd I beseech you,/ Wrest once the law to your authority./ To do a great right do a little wrong,/ And curb this cruel devil of his will.” (IV, i, 213-216)</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atiano and Bassanio both plead for the law to be bent slightly to release Antonio from his fa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re is no power in Venice/ Can alter a decree established./ ‘Twill be recorded as a precedent,/ And many an error by the same example/ Will rush into the state. It cannot be.” (IV, i, 217-221)</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nd that no </a:t>
            </a:r>
            <a:r>
              <a:rPr b="0" i="1" lang="en-US" sz="2400" spc="-1" strike="noStrike">
                <a:solidFill>
                  <a:srgbClr val="ffffff"/>
                </a:solidFill>
                <a:latin typeface="Arial"/>
              </a:rPr>
              <a:t>lawful</a:t>
            </a:r>
            <a:r>
              <a:rPr b="0" lang="en-US" sz="2400" spc="-1" strike="noStrike">
                <a:solidFill>
                  <a:srgbClr val="ffffff"/>
                </a:solidFill>
                <a:latin typeface="Arial"/>
              </a:rPr>
              <a:t> means can carry me/ Out of envy’s reach” (IV, i, 9-10)</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cannot deny the course of law” (III, iii, 26)</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w cannot be changed, it is strict and inflexible, as any bending of the law will create a precedent for others lat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4" name="PlaceHolder 2"/>
          <p:cNvSpPr>
            <a:spLocks noGrp="1"/>
          </p:cNvSpPr>
          <p:nvPr>
            <p:ph/>
          </p:nvPr>
        </p:nvSpPr>
        <p:spPr>
          <a:xfrm>
            <a:off x="250560" y="184464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 quality of mercy is not strained;/ It droppeth as the gentle rain from heaven/ Upon the place beneath.” (IV, i, 183-185)</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at thou should see the difference of our spirit, I pardon thee thy life before thou ask it.” (IV, i, 367-368) (Contrast to: “How shalt thou hope for mercy, rendering none?” (IV, i, 8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is compassionate (“not strained”) and does not treat us according to what we deser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arthly vs. Divine</a:t>
            </a:r>
            <a:endParaRPr b="0" lang="en-US" sz="3900" spc="-1" strike="noStrike">
              <a:solidFill>
                <a:srgbClr val="ffffff"/>
              </a:solidFill>
              <a:latin typeface="Arial"/>
            </a:endParaRPr>
          </a:p>
        </p:txBody>
      </p:sp>
      <p:sp>
        <p:nvSpPr>
          <p:cNvPr id="14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is sceptre shows the force of temporal power,/ The attribute to awe and majesty,/ Wherein doth sit in the dread and fear of kings.” (IV, i, 189-191)</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an attribute to God himself;/ And earthly power doth then show likest God’s/ When mercy seasons justice.” (IV, i, 194-19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rast again between the strict laws in the OT and the mercy taught in the NT. The comparison here can further be extended to Jews (Shylock) and Christia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One-sided vs. Mutually beneficial</a:t>
            </a:r>
            <a:endParaRPr b="0" lang="en-US" sz="3900" spc="-1" strike="noStrike">
              <a:solidFill>
                <a:srgbClr val="ffffff"/>
              </a:solidFill>
              <a:latin typeface="Arial"/>
            </a:endParaRPr>
          </a:p>
        </p:txBody>
      </p:sp>
      <p:sp>
        <p:nvSpPr>
          <p:cNvPr id="14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nce justice condemns, it is obvious that there is a winner and a lose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twice blest;/ It blesseth him that gives and him than takes.” (IV, i, 185-18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however, is reciprocal and mutually beneficial</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The brain may devise/ laws for the blood, But a hot temper leaps over a cold/ decree” (I, ii, 16-19)</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ltimately, justice should be seasoned with merc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urging justice (dispensed strictly and by power and retribution) and following the law strictly to the letter (“I cannot find it, ‘tis not in the bond”), Shylock ultimately sets the ground for Portia’s rebutta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loophole in the “pound of flesh”, she prevents Shylock from taking the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rther deadly law of Venice threatens to strip Shylock of everything on the sp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y shown by both the Duke and Antonio reduce Shylock’s penal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ylock is defeated and walks out of the court, and he has paid for his lack of mercy and ruthless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nds happily... Or does 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justice “seasoned with mercy” really served to Shy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4"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as preached mercy, bu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For, as thou urgest justice, be assured/ Thou shalt have justice more than thou desir’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Soft!/ The Jew shall have all justi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e shall have merely justice and his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ven if she urges justice, is impartial justice serv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Venetian Law</a:t>
            </a:r>
            <a:endParaRPr b="0" lang="en-US" sz="3900" spc="-1" strike="noStrike">
              <a:solidFill>
                <a:srgbClr val="ffffff"/>
              </a:solidFill>
              <a:latin typeface="Arial"/>
            </a:endParaRPr>
          </a:p>
        </p:txBody>
      </p:sp>
      <p:sp>
        <p:nvSpPr>
          <p:cNvPr id="156" name="PlaceHolder 2"/>
          <p:cNvSpPr>
            <a:spLocks noGrp="1"/>
          </p:cNvSpPr>
          <p:nvPr>
            <p:ph/>
          </p:nvPr>
        </p:nvSpPr>
        <p:spPr>
          <a:xfrm>
            <a:off x="250560" y="1773000"/>
            <a:ext cx="8713800" cy="432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law hath yet another hold on you. </a:t>
            </a:r>
            <a:br>
              <a:rPr sz="2400"/>
            </a:br>
            <a:r>
              <a:rPr b="0" lang="en-GB" sz="2400" spc="-1" strike="noStrike">
                <a:solidFill>
                  <a:srgbClr val="ffffff"/>
                </a:solidFill>
                <a:latin typeface="Arial"/>
              </a:rPr>
              <a:t>    It is enacted in the laws of Venice, </a:t>
            </a:r>
            <a:br>
              <a:rPr sz="2400"/>
            </a:br>
            <a:r>
              <a:rPr b="0" lang="en-GB" sz="2400" spc="-1" strike="noStrike">
                <a:solidFill>
                  <a:srgbClr val="ffffff"/>
                </a:solidFill>
                <a:latin typeface="Arial"/>
              </a:rPr>
              <a:t>    If it be proved against an </a:t>
            </a:r>
            <a:r>
              <a:rPr b="1" i="1" lang="en-GB" sz="2400" spc="-1" strike="noStrike" u="sng">
                <a:solidFill>
                  <a:srgbClr val="ffffff"/>
                </a:solidFill>
                <a:uFillTx/>
                <a:latin typeface="Arial"/>
              </a:rPr>
              <a:t>alien </a:t>
            </a:r>
            <a:br>
              <a:rPr sz="2400"/>
            </a:br>
            <a:r>
              <a:rPr b="0" lang="en-GB" sz="2400" spc="-1" strike="noStrike">
                <a:solidFill>
                  <a:srgbClr val="ffffff"/>
                </a:solidFill>
                <a:latin typeface="Arial"/>
              </a:rPr>
              <a:t>    That by direct or indirect attempts </a:t>
            </a:r>
            <a:br>
              <a:rPr sz="2400"/>
            </a:br>
            <a:r>
              <a:rPr b="0" lang="en-GB" sz="2400" spc="-1" strike="noStrike">
                <a:solidFill>
                  <a:srgbClr val="ffffff"/>
                </a:solidFill>
                <a:latin typeface="Arial"/>
              </a:rPr>
              <a:t>    He seek the life of </a:t>
            </a:r>
            <a:r>
              <a:rPr b="1" i="1" lang="en-GB" sz="2400" spc="-1" strike="noStrike" u="sng">
                <a:solidFill>
                  <a:srgbClr val="ffffff"/>
                </a:solidFill>
                <a:uFillTx/>
                <a:latin typeface="Arial"/>
              </a:rPr>
              <a:t>any citizen</a:t>
            </a:r>
            <a:r>
              <a:rPr b="0" lang="en-GB" sz="2400" spc="-1" strike="noStrike">
                <a:solidFill>
                  <a:srgbClr val="ffffff"/>
                </a:solidFill>
                <a:latin typeface="Arial"/>
              </a:rPr>
              <a:t>, </a:t>
            </a:r>
            <a:br>
              <a:rPr sz="2400"/>
            </a:br>
            <a:r>
              <a:rPr b="0" lang="en-GB" sz="2400" spc="-1" strike="noStrike">
                <a:solidFill>
                  <a:srgbClr val="ffffff"/>
                </a:solidFill>
                <a:latin typeface="Arial"/>
              </a:rPr>
              <a:t>    The party 'gainst the which he doth contrive </a:t>
            </a:r>
            <a:br>
              <a:rPr sz="2400"/>
            </a:br>
            <a:r>
              <a:rPr b="0" lang="en-GB" sz="2400" spc="-1" strike="noStrike">
                <a:solidFill>
                  <a:srgbClr val="ffffff"/>
                </a:solidFill>
                <a:latin typeface="Arial"/>
              </a:rPr>
              <a:t>    Shall </a:t>
            </a:r>
            <a:r>
              <a:rPr b="1" i="1" lang="en-GB" sz="2400" spc="-1" strike="noStrike" u="sng">
                <a:solidFill>
                  <a:srgbClr val="ffffff"/>
                </a:solidFill>
                <a:uFillTx/>
                <a:latin typeface="Arial"/>
              </a:rPr>
              <a:t>seize one half his goods</a:t>
            </a:r>
            <a:r>
              <a:rPr b="0" lang="en-GB" sz="2400" spc="-1" strike="noStrike">
                <a:solidFill>
                  <a:srgbClr val="ffffff"/>
                </a:solidFill>
                <a:latin typeface="Arial"/>
              </a:rPr>
              <a:t>; </a:t>
            </a:r>
            <a:r>
              <a:rPr b="1" i="1" lang="en-GB" sz="2400" spc="-1" strike="noStrike" u="sng">
                <a:solidFill>
                  <a:srgbClr val="ffffff"/>
                </a:solidFill>
                <a:uFillTx/>
                <a:latin typeface="Arial"/>
              </a:rPr>
              <a:t>the other half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Comes to the privy coffer of the state</a:t>
            </a:r>
            <a:r>
              <a:rPr b="0" lang="en-GB" sz="2400" spc="-1" strike="noStrike">
                <a:solidFill>
                  <a:srgbClr val="ffffff"/>
                </a:solidFill>
                <a:latin typeface="Arial"/>
              </a:rPr>
              <a:t>; </a:t>
            </a:r>
            <a:br>
              <a:rPr sz="2400"/>
            </a:br>
            <a:r>
              <a:rPr b="0" lang="en-GB" sz="2400" spc="-1" strike="noStrike">
                <a:solidFill>
                  <a:srgbClr val="ffffff"/>
                </a:solidFill>
                <a:latin typeface="Arial"/>
              </a:rPr>
              <a:t>    And the </a:t>
            </a:r>
            <a:r>
              <a:rPr b="1" i="1" lang="en-GB" sz="2400" spc="-1" strike="noStrike" u="sng">
                <a:solidFill>
                  <a:srgbClr val="ffffff"/>
                </a:solidFill>
                <a:uFillTx/>
                <a:latin typeface="Arial"/>
              </a:rPr>
              <a:t>offender's life lies in the mercy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Of the duke</a:t>
            </a:r>
            <a:r>
              <a:rPr b="0" lang="en-GB" sz="2400" spc="-1" strike="noStrike">
                <a:solidFill>
                  <a:srgbClr val="ffffff"/>
                </a:solidFill>
                <a:latin typeface="Arial"/>
              </a:rPr>
              <a:t> only, 'gainst all other voic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V, i, 347-355)</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is perceived as an “alien” vs. a “citize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ict law enforced that</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l goods would be seized by the state and the victim</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son responsible would most probably die</a:t>
            </a:r>
            <a:endParaRPr b="0" lang="en-US" sz="21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ia’s rebuttal is also legally unacceptable: blood and flesh are counted as on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we can almost hear Shylock’s cry: “Is this justic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way, it is “</a:t>
            </a:r>
            <a:r>
              <a:rPr b="1" i="1" lang="en-US" sz="2400" spc="-1" strike="noStrike" u="sng">
                <a:solidFill>
                  <a:srgbClr val="ffffff"/>
                </a:solidFill>
                <a:uFillTx/>
                <a:latin typeface="Arial"/>
              </a:rPr>
              <a:t>Acting or being in conformity</a:t>
            </a:r>
            <a:r>
              <a:rPr b="0" lang="en-US" sz="2400" spc="-1" strike="noStrike">
                <a:solidFill>
                  <a:srgbClr val="ffffff"/>
                </a:solidFill>
                <a:latin typeface="Arial"/>
              </a:rPr>
              <a:t> with what is morally upright or good”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roduction</a:t>
            </a:r>
            <a:endParaRPr b="0" lang="en-US" sz="3900" spc="-1" strike="noStrike">
              <a:solidFill>
                <a:srgbClr val="ffffff"/>
              </a:solidFill>
              <a:latin typeface="Arial"/>
            </a:endParaRPr>
          </a:p>
        </p:txBody>
      </p:sp>
      <p:sp>
        <p:nvSpPr>
          <p:cNvPr id="124" name="PlaceHolder 2"/>
          <p:cNvSpPr>
            <a:spLocks noGrp="1"/>
          </p:cNvSpPr>
          <p:nvPr>
            <p:ph/>
          </p:nvPr>
        </p:nvSpPr>
        <p:spPr>
          <a:xfrm>
            <a:off x="468000" y="1981080"/>
            <a:ext cx="821844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eme of Justice and Mercy can be seen mainly in Act 4, Scene 1</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2 are often compared by each oth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Justice is usually defined by the Law, there is a need too to analyse how the Law plays a role in the Merchant of Ven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o please my lord the duke and all the court </a:t>
            </a:r>
            <a:br>
              <a:rPr sz="2400"/>
            </a:br>
            <a:r>
              <a:rPr b="0" lang="en-GB" sz="2400" spc="-1" strike="noStrike">
                <a:solidFill>
                  <a:srgbClr val="ffffff"/>
                </a:solidFill>
                <a:latin typeface="Arial"/>
              </a:rPr>
              <a:t>    To quit the fine for one half of his goods, </a:t>
            </a:r>
            <a:br>
              <a:rPr sz="2400"/>
            </a:br>
            <a:r>
              <a:rPr b="0" lang="en-GB" sz="2400" spc="-1" strike="noStrike">
                <a:solidFill>
                  <a:srgbClr val="ffffff"/>
                </a:solidFill>
                <a:latin typeface="Arial"/>
              </a:rPr>
              <a:t>    I am content; </a:t>
            </a:r>
            <a:r>
              <a:rPr b="1" lang="en-GB" sz="2400" spc="-1" strike="noStrike" u="sng">
                <a:solidFill>
                  <a:srgbClr val="ffffff"/>
                </a:solidFill>
                <a:uFillTx/>
                <a:latin typeface="Arial"/>
              </a:rPr>
              <a:t>so he will let me have </a:t>
            </a:r>
            <a:br>
              <a:rPr sz="2400"/>
            </a:br>
            <a:r>
              <a:rPr b="1" lang="en-GB" sz="2400" spc="-1" strike="noStrike">
                <a:solidFill>
                  <a:srgbClr val="ffffff"/>
                </a:solidFill>
                <a:latin typeface="Arial"/>
              </a:rPr>
              <a:t>    </a:t>
            </a:r>
            <a:r>
              <a:rPr b="1" lang="en-GB" sz="2400" spc="-1" strike="noStrike" u="sng">
                <a:solidFill>
                  <a:srgbClr val="ffffff"/>
                </a:solidFill>
                <a:uFillTx/>
                <a:latin typeface="Arial"/>
              </a:rPr>
              <a:t>The other half in use</a:t>
            </a:r>
            <a:r>
              <a:rPr b="0" lang="en-GB" sz="2400" spc="-1" strike="noStrike">
                <a:solidFill>
                  <a:srgbClr val="ffffff"/>
                </a:solidFill>
                <a:latin typeface="Arial"/>
              </a:rPr>
              <a:t>, to render it, </a:t>
            </a:r>
            <a:br>
              <a:rPr sz="2400"/>
            </a:br>
            <a:r>
              <a:rPr b="0" lang="en-GB" sz="2400" spc="-1" strike="noStrike">
                <a:solidFill>
                  <a:srgbClr val="ffffff"/>
                </a:solidFill>
                <a:latin typeface="Arial"/>
              </a:rPr>
              <a:t>    Upon his death, unto the gentleman </a:t>
            </a:r>
            <a:br>
              <a:rPr sz="2400"/>
            </a:br>
            <a:r>
              <a:rPr b="0" lang="en-GB" sz="2400" spc="-1" strike="noStrike">
                <a:solidFill>
                  <a:srgbClr val="ffffff"/>
                </a:solidFill>
                <a:latin typeface="Arial"/>
              </a:rPr>
              <a:t>    That lately stole his daughter: </a:t>
            </a:r>
            <a:br>
              <a:rPr sz="2400"/>
            </a:br>
            <a:r>
              <a:rPr b="0" lang="en-GB" sz="2400" spc="-1" strike="noStrike">
                <a:solidFill>
                  <a:srgbClr val="ffffff"/>
                </a:solidFill>
                <a:latin typeface="Arial"/>
              </a:rPr>
              <a:t>    Two things provided more, that, </a:t>
            </a:r>
            <a:r>
              <a:rPr b="1" lang="en-GB" sz="2400" spc="-1" strike="noStrike" u="sng">
                <a:solidFill>
                  <a:srgbClr val="ffffff"/>
                </a:solidFill>
                <a:uFillTx/>
                <a:latin typeface="Arial"/>
              </a:rPr>
              <a:t>for this favour</a:t>
            </a:r>
            <a:r>
              <a:rPr b="0" lang="en-GB" sz="2400" spc="-1" strike="noStrike">
                <a:solidFill>
                  <a:srgbClr val="ffffff"/>
                </a:solidFill>
                <a:latin typeface="Arial"/>
              </a:rPr>
              <a:t>,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He presently become a Christian</a:t>
            </a:r>
            <a:r>
              <a:rPr b="0" lang="en-GB" sz="2400" spc="-1" strike="noStrike">
                <a:solidFill>
                  <a:srgbClr val="ffffff"/>
                </a:solidFill>
                <a:latin typeface="Arial"/>
              </a:rPr>
              <a:t>; </a:t>
            </a:r>
            <a:br>
              <a:rPr sz="2400"/>
            </a:br>
            <a:r>
              <a:rPr b="0" lang="en-GB" sz="2400" spc="-1" strike="noStrike">
                <a:solidFill>
                  <a:srgbClr val="ffffff"/>
                </a:solidFill>
                <a:latin typeface="Arial"/>
              </a:rPr>
              <a:t>    The other, that he do record a gift, </a:t>
            </a:r>
            <a:br>
              <a:rPr sz="2400"/>
            </a:br>
            <a:r>
              <a:rPr b="0" lang="en-GB" sz="2400" spc="-1" strike="noStrike">
                <a:solidFill>
                  <a:srgbClr val="ffffff"/>
                </a:solidFill>
                <a:latin typeface="Arial"/>
              </a:rPr>
              <a:t>    Here in the court, of all he dies possess'd,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Unto his son Lorenzo</a:t>
            </a:r>
            <a:r>
              <a:rPr b="0" lang="en-GB" sz="2400" spc="-1" strike="noStrike">
                <a:solidFill>
                  <a:srgbClr val="ffffff"/>
                </a:solidFill>
                <a:latin typeface="Arial"/>
              </a:rPr>
              <a:t> and his daugh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2" name="PlaceHolder 2"/>
          <p:cNvSpPr>
            <a:spLocks noGrp="1"/>
          </p:cNvSpPr>
          <p:nvPr>
            <p:ph/>
          </p:nvPr>
        </p:nvSpPr>
        <p:spPr>
          <a:xfrm>
            <a:off x="250560" y="1773000"/>
            <a:ext cx="8435880" cy="432252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1: Shylock becomes Christian (strips him of his religion, profession, identit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2: Shylock gives money to his “son”, Lorenzo, on his death (strips him of his pride, forced to acknowledge Lorenzo as his s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3: Shylock entrusts money to his enemy and “owes a favour to him” (strips him of his money, pride and the chance to obtain his retributi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tonio’s eyes, this is compassion and mercy (“for this favour”), but in Shylock’s eyes, is this merc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graphicFrame>
        <p:nvGraphicFramePr>
          <p:cNvPr id="164" name=""/>
          <p:cNvGraphicFramePr/>
          <p:nvPr/>
        </p:nvGraphicFramePr>
        <p:xfrm>
          <a:off x="468360" y="1981080"/>
          <a:ext cx="8218440" cy="2311560"/>
        </p:xfrm>
        <a:graphic>
          <a:graphicData uri="http://schemas.openxmlformats.org/drawingml/2006/table">
            <a:tbl>
              <a:tblPr/>
              <a:tblGrid>
                <a:gridCol w="4110120"/>
                <a:gridCol w="4108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y</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id, inflexible, stric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ssiona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mning, punitiv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eming, forgiving</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side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benefi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m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God (divi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900000" y="4724280"/>
            <a:ext cx="73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timately, justice should be seasoned with mercy, and ruthless, inflexible justice based on power and retribution is not favourable in any 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sp>
        <p:nvSpPr>
          <p:cNvPr id="167"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th of a ma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justice and the law, all men should be equal: but is the law always fair to all? Can it be manipulated for personal gai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mercy, all men deserve to be shown kindness and grace despite of their faults: but is mercy shown to 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Thank you for your kind attention</a:t>
            </a:r>
            <a:endParaRPr b="0" lang="en-US" sz="4500" spc="-1" strike="noStrike">
              <a:solidFill>
                <a:srgbClr val="ffffff"/>
              </a:solidFill>
              <a:latin typeface="Arial"/>
            </a:endParaRPr>
          </a:p>
        </p:txBody>
      </p:sp>
      <p:sp>
        <p:nvSpPr>
          <p:cNvPr id="16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a:t>
            </a:r>
            <a:endParaRPr b="0" lang="en-US" sz="3900" spc="-1" strike="noStrike">
              <a:solidFill>
                <a:srgbClr val="ffffff"/>
              </a:solidFill>
              <a:latin typeface="Arial"/>
            </a:endParaRPr>
          </a:p>
        </p:txBody>
      </p:sp>
      <p:sp>
        <p:nvSpPr>
          <p:cNvPr id="12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and fair (legally?) behaviour of treatment</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i="1" lang="en-US" sz="2800" spc="-1" strike="noStrike" u="sng">
                <a:solidFill>
                  <a:srgbClr val="ffffff"/>
                </a:solidFill>
                <a:uFillTx/>
                <a:latin typeface="Arial"/>
              </a:rPr>
              <a:t>Acting or being in conformity</a:t>
            </a:r>
            <a:r>
              <a:rPr b="0" lang="en-US" sz="2800" spc="-1" strike="noStrike">
                <a:solidFill>
                  <a:srgbClr val="ffffff"/>
                </a:solidFill>
                <a:latin typeface="Arial"/>
              </a:rPr>
              <a:t> with what is morally upright or good”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uided by </a:t>
            </a:r>
            <a:r>
              <a:rPr b="0" i="1" lang="en-US" sz="2800" spc="-1" strike="noStrike">
                <a:solidFill>
                  <a:srgbClr val="ffffff"/>
                </a:solidFill>
                <a:latin typeface="Arial"/>
              </a:rPr>
              <a:t>truth, reason, justice, and fairnes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maintenance or administration of what is just especially by the </a:t>
            </a:r>
            <a:r>
              <a:rPr b="1" i="1" lang="en-US" sz="2800" spc="-1" strike="noStrike" u="sng">
                <a:solidFill>
                  <a:srgbClr val="ffffff"/>
                </a:solidFill>
                <a:uFillTx/>
                <a:latin typeface="Arial"/>
              </a:rPr>
              <a:t>impartial</a:t>
            </a:r>
            <a:r>
              <a:rPr b="0" i="1" lang="en-US" sz="2800" spc="-1" strike="noStrike">
                <a:solidFill>
                  <a:srgbClr val="ffffff"/>
                </a:solidFill>
                <a:latin typeface="Arial"/>
              </a:rPr>
              <a:t> </a:t>
            </a:r>
            <a:r>
              <a:rPr b="0" lang="en-US" sz="2800" spc="-1" strike="noStrike">
                <a:solidFill>
                  <a:srgbClr val="ffffff"/>
                </a:solidFill>
                <a:latin typeface="Arial"/>
              </a:rPr>
              <a:t>adjustment of </a:t>
            </a:r>
            <a:r>
              <a:rPr b="1" i="1" lang="en-US" sz="2800" spc="-1" strike="noStrike" u="sng">
                <a:solidFill>
                  <a:srgbClr val="ffffff"/>
                </a:solidFill>
                <a:uFillTx/>
                <a:latin typeface="Arial"/>
              </a:rPr>
              <a:t>conflicting claims</a:t>
            </a:r>
            <a:r>
              <a:rPr b="0" lang="en-US" sz="2800" spc="-1" strike="noStrike">
                <a:solidFill>
                  <a:srgbClr val="ffffff"/>
                </a:solidFill>
                <a:latin typeface="Arial"/>
              </a:rPr>
              <a:t> or the assignment of </a:t>
            </a:r>
            <a:r>
              <a:rPr b="1" i="1" lang="en-US" sz="2800" spc="-1" strike="noStrike" u="sng">
                <a:solidFill>
                  <a:srgbClr val="ffffff"/>
                </a:solidFill>
                <a:uFillTx/>
                <a:latin typeface="Arial"/>
              </a:rPr>
              <a:t>merited rewards or punishments</a:t>
            </a:r>
            <a:r>
              <a:rPr b="0" lang="en-US" sz="2800" spc="-1" strike="noStrike">
                <a:solidFill>
                  <a:srgbClr val="ffffff"/>
                </a:solidFill>
                <a:latin typeface="Arial"/>
              </a:rPr>
              <a:t>” – Encyclopaedia Britannic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Law</a:t>
            </a:r>
            <a:endParaRPr b="0" lang="en-US" sz="3900" spc="-1" strike="noStrike">
              <a:solidFill>
                <a:srgbClr val="ffffff"/>
              </a:solidFill>
              <a:latin typeface="Arial"/>
            </a:endParaRPr>
          </a:p>
        </p:txBody>
      </p:sp>
      <p:sp>
        <p:nvSpPr>
          <p:cNvPr id="12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ystem of rules society develops to deal with crime, business agreements and social relationship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rule of conduct or action prescribed or formally recognized as </a:t>
            </a:r>
            <a:r>
              <a:rPr b="1" i="1" lang="en-US" sz="2800" spc="-1" strike="noStrike" u="sng">
                <a:solidFill>
                  <a:srgbClr val="ffffff"/>
                </a:solidFill>
                <a:uFillTx/>
                <a:latin typeface="Arial"/>
              </a:rPr>
              <a:t>binding or enforced</a:t>
            </a:r>
            <a:r>
              <a:rPr b="0" lang="en-US" sz="2800" spc="-1" strike="noStrike">
                <a:solidFill>
                  <a:srgbClr val="ffffff"/>
                </a:solidFill>
                <a:latin typeface="Arial"/>
              </a:rPr>
              <a:t> by a controlling authority” - Britannic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whole system of rules that </a:t>
            </a:r>
            <a:r>
              <a:rPr b="1" i="1" lang="en-US" sz="2800" spc="-1" strike="noStrike" u="sng">
                <a:solidFill>
                  <a:srgbClr val="ffffff"/>
                </a:solidFill>
                <a:uFillTx/>
                <a:latin typeface="Arial"/>
              </a:rPr>
              <a:t>everybody in a country or society must obey</a:t>
            </a:r>
            <a:r>
              <a:rPr b="0" lang="en-US" sz="2800" spc="-1" strike="noStrike">
                <a:solidFill>
                  <a:srgbClr val="ffffff"/>
                </a:solidFill>
                <a:latin typeface="Arial"/>
              </a:rPr>
              <a:t>” - O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amp; the Law</a:t>
            </a:r>
            <a:endParaRPr b="0" lang="en-US" sz="3900" spc="-1" strike="noStrike">
              <a:solidFill>
                <a:srgbClr val="ffffff"/>
              </a:solidFill>
              <a:latin typeface="Arial"/>
            </a:endParaRPr>
          </a:p>
        </p:txBody>
      </p:sp>
      <p:sp>
        <p:nvSpPr>
          <p:cNvPr id="13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Justice! Find the girl! She hath the stones upon her, and the ducats!” (II, viii, 21-22)</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shall grant me justice.” (III, iii, 8)</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 deeds upon my head! I crave the law...” (IV, I, 205)</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charge you by the law,/ Whereof you have been a well-deserving pillar,/ Proceed to judgement” (IV, I, 237-239)</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repeatedly expresses desire for justice, using Venetian law as a tool for revenge</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s the representative of strict justice: one that it merciless and based on power and retribu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2"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oosing not to harm someone you have power ov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giving someone you have the right to punis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Compassionate or kindly forbearance shown toward an offender, an enemy, or other person in one's power; compassion, pity, or benevolence” – Dictionary.c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4"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n must the Jew be merciful.” (IV, i, 182)</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Be merciful;/ take thrice the money, bid me tear the bond.” (IV, i, 232-233)</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were good you do so for charity.” (IV, i, 260)</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ere seems to be the representative of mercy, delivering a speech that extols this value as well as other Christian valu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6"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o mitigate the justice of thy plea, Which if thou follow, this strict court of Venice/ Must needs give sentence ‘gainst the merchant there.” (IV, i, 202-20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the bond) condemns Antonio to die but mercy would redeem him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at thou should see the difference of our spirit, I pardon thee thy life before thou ask it.” (IV, i, 367-368)</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at mercy can you render him, Antonio?” (IV, i, 377)</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uke (and later Antonio) both show mercy to Shylock, redeeming him despite of his de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8" name="PlaceHolder 2"/>
          <p:cNvSpPr>
            <a:spLocks noGrp="1"/>
          </p:cNvSpPr>
          <p:nvPr>
            <p:ph/>
          </p:nvPr>
        </p:nvSpPr>
        <p:spPr>
          <a:xfrm>
            <a:off x="250560" y="1773360"/>
            <a:ext cx="8893080" cy="4114800"/>
          </a:xfrm>
          <a:prstGeom prst="rect">
            <a:avLst/>
          </a:prstGeom>
          <a:noFill/>
          <a:ln w="0">
            <a:noFill/>
          </a:ln>
        </p:spPr>
        <p:txBody>
          <a:bodyPr lIns="90000" rIns="90000" tIns="46800" bIns="46800" anchor="t">
            <a:normAutofit fontScale="96000"/>
          </a:bodyPr>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at in the course of justice none of us/ Should see salvation.” (IV, I, 198-199)</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stice, if strictly followed, would condemn all humanity as well</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e do all pray for mercy,/ And that same prayer doth teach us all to render/ The deeds of mercy.” (IV, I, 199-201)</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rcy, however, redeems us (contrast of New Testament teachings to Old Testament’s “an eye for an eye, a tooth for a tooth”) </a:t>
            </a: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7:25:18Z</dcterms:created>
  <dc:creator>ykb</dc:creator>
  <dc:description/>
  <dc:language>en-US</dc:language>
  <cp:lastModifiedBy>ykb</cp:lastModifiedBy>
  <dcterms:modified xsi:type="dcterms:W3CDTF">2009-09-26T09:35:55Z</dcterms:modified>
  <cp:revision>15</cp:revision>
  <dc:subject/>
  <dc:title>Justice vs. Mercy</dc:title>
</cp:coreProperties>
</file>