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C62-E162-462D-9B88-308E93BC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9A8-38B6-4BB6-ABD0-150E5270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6DD-686D-41A3-97C6-60A08F9C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CE1D-9306-4899-AE3A-A7628A09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73BD-C170-4735-A7FC-A4DC7691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3B8E-2894-4B99-9112-C00D1D4C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5048-C8C7-4686-882D-38EE17E3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3EB8-3475-41D6-BD8E-3BB82CC9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CB72-F512-4F80-95C4-BEC23D67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EBD5-D15A-4D14-8D0D-1081B0C4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330E-AFE1-462D-B587-B492ACB2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BE6-7D8D-49E6-80D1-085985F1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6A8F-F937-43AF-8259-44E14580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2FC7-0607-4EB6-9B88-4BD71882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A72B-20C5-4989-85C2-C00F1D2C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EBA4-4158-4C47-92D5-AA2B1CAD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1CC3-DA7D-48B6-91FE-3D938797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4DD-5F4E-4D8F-A1AC-9D4010E5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23E-900B-4327-AD0C-BCF20868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943-0E68-451E-9B37-200956CA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AEA-6A5B-457A-A49F-9B0D6D60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449-68DF-4015-8612-35CEDF59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201-787F-4287-815D-C00C8FA9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2EC-25C5-4785-9A63-3124AC47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D2FA-DA1B-4697-A8B5-B1776E9588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69EF-2444-426C-B9E8-AD2F033227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essic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2120" y="342864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essica’s personality and 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ing Jessica to Port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laboratio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u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rtia disguised herself as a lawyer to help save her husband’s closest friend, Antonio whe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e risked blowing her co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e also faces social execution if discovered to be breaking the law, a serious off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she did it out of her love for her husband and nobil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 Jessica justifie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ssica, being Shylock’s daughter, must have enough of suffering from the Christians in the Venetian society where Jews are persecuted by the Christians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the play, we can see how Shylock is often discriminated against by the Jew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us, Jessica still faces racial prejudice from other Christians due to her Jewish origins and relig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jected to this racial prejudice, Jessica has so willingly left her fathe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ssica and Portia are similar in many aspects and are the leading female characters that are manipulative to a certain extent in this male-dominated societ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 important role as a female character in the male-dominated society in The Merchant of Venic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lligent to have come up with a plan to disguise herself in order to achieve her purpose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xample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ssica disguised herself as a page in order to elope with Lorenz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milarly, Portia devised a plan to disguise herself as a learned Doctor to help save her husband’s best friend, Anton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ssica is unfilial to abandon her father who is already marginalised by the society made up mostly of Christia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contrast, Portia is different from Jessica in being a filial daughter who is very obedient and loyal to her father who is already dea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may neither choose who I / would nor refuse who I dislike, so is the will of a living / daughter curbed by the will of a dead father.”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ssica is deceptive in concealing her elopement from Shylock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rtia deceived Shylock in the tri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laboratio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essica is deceptive in concealing her elopement from Shyloc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ssica appears at first to respect her father and follow his instructions as he tells her to “lock up [the] doors” and not to “clamber up to the casements then” after hearing about the masqu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ever, the moment he steps out of the house, Jessica reveals her true intentions of eloping, “Farewell; and if my fortune be not crossed, / I have a father, you a daughter, lost.”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laboratio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rtia deceived Shylock in the tri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rtia first disguised herself as a Doctor who is sufficiently learned of the law to save Antonio and through her disguise, picks out and finds a loophole in the bond that eventually brings about Shylock’s defe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ur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ssica is courageous to leave Shylock out of her true love for Lorenzo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rtia is courageous to help save Anton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laboratio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our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Jessica went against her father to elope with Lorenzo because she dearly loves Lorenzo when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e is a Jew (a lowly status in Venice) and she risks being shamed from her elopement with a Christia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other words, she might face social execution and become an isolated person stuck in between the Jews and the Christian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et, she still summons her courage to pursue what is dearest to he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09:31:14Z</dcterms:created>
  <dc:creator>Richard Lim</dc:creator>
  <dc:description/>
  <dc:language>en-US</dc:language>
  <cp:lastModifiedBy>Richard Lim</cp:lastModifiedBy>
  <dcterms:modified xsi:type="dcterms:W3CDTF">2009-08-15T10:09:43Z</dcterms:modified>
  <cp:revision>3</cp:revision>
  <dc:subject/>
  <dc:title>Jessica  </dc:title>
</cp:coreProperties>
</file>