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972E-5A5B-484E-875F-84543C78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4B6F-EA29-4492-803E-ECE70DAEA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C309-D02A-4ACA-A0AB-827898C48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E2C9-99D5-4EC4-A8DB-2925A0295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42349-EF02-43F9-8148-EDE6C66B3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3057-9733-4558-93B4-F25FF3217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5909-5303-4967-B54C-23AE9AB6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D677-7B8F-407C-BB53-A8D5D41F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7FC0-2748-45E6-9FD2-FEBE5E0A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BCFD-A4AB-4868-A03C-6DEB66DD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0B5FC-98C3-4490-B7FD-CA453B01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0B64-EDBF-4DC3-ACCB-080188A11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027F-8AA5-4FF3-A4D4-CF6E1AB1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33B8-A800-4196-9D0A-44696AA7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6658-216A-4B36-B516-BFB03B40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7713-81FE-49CB-9783-04AA6D338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B720-2367-49AC-B0D6-C76CB66BD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ECC4-447C-421F-B782-F64E4633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C35E-3AB9-43D1-8F6D-10A01435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13B4-B793-4FA9-9C4F-CFC40F6D1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6537-D033-4A3E-9452-FA18220C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05E7-9F24-4B1B-811C-D6EFE9AE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2F64-BE73-4C28-AD3A-1EA8FB05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1430-0324-4E04-A835-9C003027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C24A-9113-4A8D-B4E6-C0C25CC80B5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8A55A-AFAE-49D0-87C5-AF629B83177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Jessica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2120" y="342864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essica’s personality and characteris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aring Jessica to Port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essica VS Portia (Elaboration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ur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rtia disguised herself as a lawyer to help save her husband’s closest friend, Antonio when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he risked blowing her cov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he also faces social execution if discovered to be breaking the law, a serious offenc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ut she did it out of her love for her husband and nobilit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 Jessica justified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essica, being Shylock’s daughter, must have enough of suffering from the Christians in the Venetian society where Jews are persecuted by the Christians.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 the play, we can see how Shylock is often discriminated against by the Jew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us, Jessica still faces racial prejudice from other Christians due to her Jewish origins and relig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ubjected to this racial prejudice, Jessica has so willingly left her father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ssica and Portia are similar in many aspects and are the leading female characters that are manipulative to a certain extent in this male-dominated society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essica VS Port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n important role as a female character in the male-dominated society in The Merchant of Venice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telligent to have come up with a plan to disguise herself in order to achieve her purpose.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essica VS Portia (Examples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ssica disguised herself as a page in order to elope with Lorenz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milarly, Portia devised a plan to disguise herself as a learned Doctor to help save her husband’s best friend, Antoni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essica VS Port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Jessica is unfilial to abandon her father who is already marginalised by the society made up mostly of Christia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 contrast, Portia is different from Jessica in being a filial daughter who is very obedient and loyal to her father who is already dead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 may neither choose who I / would nor refuse who I dislike, so is the will of a living / daughter curbed by the will of a dead father.”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essica VS Port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ssica is deceptive in concealing her elopement from Shylock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rtia deceived Shylock in the tria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essica VS Portia (elaboration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Jessica is deceptive in concealing her elopement from Shylock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Jessica appears at first to respect her father and follow his instructions as he tells her to “lock up [the] doors” and not to “clamber up to the casements then” after hearing about the masqu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However, the moment he steps out of the house, Jessica reveals her true intentions of eloping, “Farewell; and if my fortune be not crossed, / I have a father, you a daughter, lost.”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essica VS Portia (elaboration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Portia deceived Shylock in the tri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rtia first disguised herself as a Doctor who is sufficiently learned of the law to save Antonio and through her disguise, picks out and finds a loophole in the bond that eventually brings about Shylock’s defe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essica VS Porti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urag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essica is courageous to leave Shylock out of her true love for Lorenzo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ortia is courageous to help save Antoni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Jessica VS Portia (Elaboration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Courag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Jessica went against her father to elope with Lorenzo because she dearly loves Lorenzo when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e is a Jew (a lowly status in Venice) and she risks being shamed from her elopement with a Christia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In other words, she might face social execution and become an isolated person stuck in between the Jews and the Christians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Yet, she still summons her courage to pursue what is dearest to her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5T09:31:14Z</dcterms:created>
  <dc:creator>Richard Lim</dc:creator>
  <dc:description/>
  <dc:language>en-US</dc:language>
  <cp:lastModifiedBy>Richard Lim</cp:lastModifiedBy>
  <dcterms:modified xsi:type="dcterms:W3CDTF">2009-08-15T10:09:43Z</dcterms:modified>
  <cp:revision>3</cp:revision>
  <dc:subject/>
  <dc:title>Jessica  </dc:title>
</cp:coreProperties>
</file>