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67E-C06B-4C62-9250-718E9047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F66-BDF7-454C-A6F3-8FD7661F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D63-33C4-4006-969E-D7A6009A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F22-9855-4B51-9798-1229E4BD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EA86-2274-49E5-8C16-704F3741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FC06-CFD7-4F66-B5FE-64581532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ABC5-3D84-4B0D-A571-685421D2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9EAD-E8B1-4BFF-9A2A-E49D3848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3BF6-129E-4380-ABA7-280D3009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ED9C-68E2-4353-9643-E76D1125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40F5-1189-436F-AA48-34A5B9B9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D08-6CAE-43DC-844F-6FAFEDF1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6127-C7B0-43B7-8516-C5109AF2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5DD7-7B1D-4EC8-A4B9-03D3661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08B5-6300-45C9-9824-E8783945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B794-BFA4-4C4B-BCA6-2C5C40FC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E857-1D4E-417B-BA74-5D9A81BB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C73-1136-426F-9D18-62EFD08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E74-6872-4A8A-A907-EFC066B0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2AB-ABE3-4681-908B-46F58763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A1C-216B-48B3-8B5D-E430DA2F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BD0-D1C5-4B64-9DED-0F155A1B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3F6-6999-4B56-B2E9-E613C026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E7C-88B7-4325-9EBB-7F436C12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462F-C8E1-40D5-B091-1CF74DBA0F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0C60-8151-4075-B1D3-F78142D70E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essic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2120" y="34286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ssica’s personality and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ing Jessica to Port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u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rtia disguised herself as a lawyer to help save her husband’s closest friend, Antonio whe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risked blowing her co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also faces social execution if discovered to be breaking the law, a serious off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she did it out of her love for her husband and nobi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 Jessica justifie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ssica, being Shylock’s daughter, must have enough of suffering from the Christians in the Venetian society where Jews are persecuted by the Christians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the play, we can see how Shylock is often discriminated against by the Jew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us, Jessica still faces racial prejudice from other Christians due to her Jewish origins and relig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jected to this racial prejudice, Jessica has so willingly left her fathe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and Portia are similar in many aspects and are the leading female characters that are manipulative to a certain extent in this male-dominated societ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important role as a female character in the male-dominated society in The Merchant of Veni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lligent to have come up with a plan to disguise herself in order to achieve her purpose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xample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disguised herself as a page in order to elope with Lorenz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ilarly, Portia devised a plan to disguise herself as a learned Doctor to help save her husband’s best friend, Anton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ssica is unfilial to abandon her father who is already marginalised by the society made up mostly of Christia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contrast, Portia is different from Jessica in being a filial daughter who is very obedient and loyal to her father who is already dea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may neither choose who I / would nor refuse who I dislike, so is the will of a living / daughter curbed by the will of a dead father.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is deceptive in concealing her elopement from Shylock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rtia deceived Shylock in the tr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essica is deceptive in concealing her elopement from Shyloc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ssica appears at first to respect her father and follow his instructions as he tells her to “lock up [the] doors” and not to “clamber up to the casements then” after hearing about the masqu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ever, the moment he steps out of the house, Jessica reveals her true intentions of eloping, “Farewell; and if my fortune be not crossed, / I have a father, you a daughter, lost.”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rtia deceived Shylock in the tri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rtia first disguised herself as a Doctor who is sufficiently learned of the law to save Antonio and through her disguise, picks out and finds a loophole in the bond that eventually brings about Shylock’s defe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ur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is courageous to leave Shylock out of her true love for Lorenz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rtia is courageous to help save Anton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ur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Jessica went against her father to elope with Lorenzo because she dearly loves Lorenzo whe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e is a Jew (a lowly status in Venice) and she risks being shamed from her elopement with a Christia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other words, she might face social execution and become an isolated person stuck in between the Jews and the Christian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et, she still summons her courage to pursue what is dearest to h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09:31:14Z</dcterms:created>
  <dc:creator>Richard Lim</dc:creator>
  <dc:description/>
  <dc:language>en-US</dc:language>
  <cp:lastModifiedBy>Richard Lim</cp:lastModifiedBy>
  <dcterms:modified xsi:type="dcterms:W3CDTF">2009-08-15T10:09:43Z</dcterms:modified>
  <cp:revision>3</cp:revision>
  <dc:subject/>
  <dc:title>Jessica  </dc:title>
</cp:coreProperties>
</file>