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3704-5580-469F-A9BF-B3678398B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88B6-4480-4568-A10B-F56A0619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0AF-4F12-4817-B582-7F060672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599-4114-47E5-A5EC-87191DC5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C12B-A593-46EF-9312-F7C37FB79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1BA2-F344-4099-9453-E5DE37F01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DF527-942B-43E9-847C-C818693D8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505-F693-47FA-917F-B97ED56F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9D96-C96E-460A-8263-E6CB6DCF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0516A-0F84-462D-8816-EA6CF4F05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A826-0DB3-43B1-B71A-9A284419B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A9E-9254-4921-AD20-BBC2457D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BA37-BF6F-476D-873A-692A228B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CAA3-5CC0-4880-8CF2-DF461787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0442-E3AE-433E-853E-3F0FA9FA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0341A-BF4B-48AC-946A-4FB8D241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1E48-1987-4E40-832A-46EA5CE8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2D79-A115-4E89-9EB9-4CAFC05D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A284-5998-439D-8331-DBB818AD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15B3-3380-4549-AA4F-A99ED5B1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2757-03D4-4449-BD1D-EB2ED9EE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65F0-BDCF-45C8-AE77-65D20D1C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F4953-BC16-4281-B35B-6230CFCC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FFB9-B763-4B7A-84DD-1F4F4EF1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EC5A-511F-44C1-9E73-F1968256944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A73A-D564-46F9-8644-2AEACB10E6F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essi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ssica’s personality an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ng Jessica to Po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disguised herself as a lawyer to help save her husband’s closest friend, Antonio wh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risked blowing her c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also faces social execution if discovered to be breaking the law, a serious off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he did it out of her love for her husband and no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 Jessica justifie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, being Shylock’s daughter, must have enough of suffering from the Christians in the Venetian society where Jews are persecuted by the Christians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the play, we can see how Shylock is often discriminated against by the Jew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us, Jessica still faces racial prejudice from other Christians due to her Jewish origins and relig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ed to this racial prejudice, Jessica has so willingly left her fath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and Portia are similar in many aspects and are the leading female characters that are manipulative to a certain extent in this male-dominated societ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mportant role as a female character in the male-dominated society in The Merchant of Veni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lligent to have come up with a plan to disguise herself in order to achieve her purpos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xampl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disguised herself as a page in order to elope with Loren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ilarly, Portia devised a plan to disguise herself as a learned Doctor to help save her husband’s best friend,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 is unfilial to abandon her father who is already marginalised by the society made up mostly of Christi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ntrast, Portia is different from Jessica in being a filial daughter who is very obedient and loyal to her father who is already dea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may neither choose who I / would nor refuse who I dislike, so is the will of a living / daughter curbed by the will of a dead father.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ssica appears at first to respect her father and follow his instructions as he tells her to “lock up [the] doors” and not to “clamber up to the casements then” after hearing about the masqu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the moment he steps out of the house, Jessica reveals her true intentions of eloping, “Farewell; and if my fortune be not crossed, / I have a father, you a daughter, lost.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first disguised herself as a Doctor who is sufficiently learned of the law to save Antonio and through her disguise, picks out and finds a loophole in the bond that eventually brings about Shylock’s defe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courageous to leave Shylock out of her true love for Lorenz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is courageous to help save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essica went against her father to elope with Lorenzo because she dearly loves Lorenzo wh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e is a Jew (a lowly status in Venice) and she risks being shamed from her elopement with a Christi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other words, she might face social execution and become an isolated person stuck in between the Jews and the Christian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et, she still summons her courage to pursue what is dearest to h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9:31:14Z</dcterms:created>
  <dc:creator>Richard Lim</dc:creator>
  <dc:description/>
  <dc:language>en-US</dc:language>
  <cp:lastModifiedBy>Richard Lim</cp:lastModifiedBy>
  <dcterms:modified xsi:type="dcterms:W3CDTF">2009-08-15T10:09:43Z</dcterms:modified>
  <cp:revision>3</cp:revision>
  <dc:subject/>
  <dc:title>Jessica  </dc:title>
</cp:coreProperties>
</file>